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621-9A22-495E-9925-D73CE72C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72D-DF25-4A6C-B485-19DD7D28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8C2-415B-492E-B16F-1E927073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3DC-8EE6-4DFA-9B49-C8825773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5885-D773-41A5-8024-FC23CB82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E3D3-4497-4880-B866-3D8C457F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DA1F-ED94-4A7D-9C56-02958C21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B9E2-F4C1-4ECE-A33F-5D27BDE0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6199-510A-41C5-8F68-B2CA7563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5951-8E0F-4E80-85CE-7184C1BE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6CD4-A0C1-4386-A0F2-E3ED12C3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8BA-3C8B-44AE-B21B-6DD7C1F1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9884-3F3C-48FE-B968-8500FCD6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65A3-D80A-4226-907B-6FEC667E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8315-54C7-4A59-88B2-E880F021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6B31-D7ED-4462-AF8A-7D9D6DA1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5467-1AC4-4D3E-9481-83289116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132B-20E1-40C9-AE71-EB5FC7BA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85EC-AE08-40AE-9071-BFA0F25E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DD96-D4FE-4A66-89C0-C3BB04D6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5B08-DD9F-4017-A7B9-088A8277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A27B-0623-4E77-89E7-B7ECE1A7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2FA-B82D-47DB-BABE-2F24A427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7DA5-5F18-4AA3-A6D1-D45A5EB6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9C1D-FD5E-4A80-BC67-784AFAD0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8B75-F501-4F7C-8C0F-089734FF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8BB0-0013-480D-AE23-3BB3050E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6D582-57DC-4D53-AE65-B2EC7C35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7F52-50F1-4AC8-A39C-0CC8A1C8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7F0EC-00A2-4544-A428-E809A4EA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3ED-8314-4529-8C4B-4D96D0BF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947-79D4-41CC-A14A-0F8AC7EF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F12-203D-4710-B740-E8EEF74A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29E-29E2-40A6-A614-939F9634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6FE-25B7-413E-8589-29CA7755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E4C-B042-4F68-AAB1-5497AFCF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c6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0354-A757-4921-A2D6-6135D7F78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6933-8893-46FD-97F5-5F2F3015E1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8DD5-9569-4160-8FEA-6951D5368C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SUPERVISED DIVERSIONARY</a:t>
            </a:r>
            <a:br>
              <a:rPr sz="5400"/>
            </a:b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PROGRAM</a:t>
            </a:r>
            <a:br>
              <a:rPr sz="5400"/>
            </a:b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Aft>
                <a:spcPts val="24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f2fb5"/>
                </a:solidFill>
                <a:uFillTx/>
                <a:latin typeface="Garamond"/>
              </a:rPr>
              <a:t>54-56</a:t>
            </a:r>
            <a:r>
              <a:rPr b="1" i="1" lang="en-US" sz="3200" spc="-1" strike="noStrike" u="sng">
                <a:solidFill>
                  <a:srgbClr val="3f2fb5"/>
                </a:solidFill>
                <a:uFillTx/>
                <a:latin typeface="Garamond"/>
              </a:rPr>
              <a:t>l </a:t>
            </a:r>
            <a:r>
              <a:rPr b="1" lang="en-US" sz="3200" spc="-1" strike="noStrike" u="sng">
                <a:solidFill>
                  <a:srgbClr val="3f2fb5"/>
                </a:solidFill>
                <a:uFillTx/>
                <a:latin typeface="Garamond"/>
              </a:rPr>
              <a:t> (Effective Oct. 1, 2008)</a:t>
            </a:r>
            <a:r>
              <a:rPr b="0" lang="en-US" sz="3200" spc="-1" strike="noStrike">
                <a:solidFill>
                  <a:srgbClr val="3f2fb5"/>
                </a:solidFill>
                <a:latin typeface="Garamond"/>
              </a:rPr>
              <a:t>:  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Created a diversionary program that combines mental health treatment with probation supervision for defendants with psychiatric disabilities.</a:t>
            </a:r>
            <a:r>
              <a:rPr b="1" lang="en-US" sz="3200" spc="-1" strike="noStrike" u="sng">
                <a:solidFill>
                  <a:srgbClr val="3f2fb5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Aft>
                <a:spcPts val="24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Psychiatric disability is defined as a mental or emotional condition, other than solely substance abuse, that has substantial adverse effects on the defendant’s ability to function and requires care and treatment *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* Per  CGS 54-56</a:t>
            </a:r>
            <a:r>
              <a:rPr b="1" i="1" lang="en-US" sz="3200" spc="-1" strike="noStrike">
                <a:solidFill>
                  <a:srgbClr val="3f2fb5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28600"/>
            <a:ext cx="5791320" cy="533520"/>
          </a:xfrm>
          <a:prstGeom prst="rect">
            <a:avLst/>
          </a:prstGeom>
          <a:solidFill>
            <a:srgbClr val="e0ebf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2fb5"/>
                </a:solidFill>
                <a:latin typeface="Garamond"/>
                <a:ea typeface="Arial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solidFill>
            <a:srgbClr val="e0ebf6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f2fb5"/>
                </a:solidFill>
                <a:latin typeface="Garamond"/>
              </a:rPr>
              <a:t>OVERVIEW  OF ELIGIBILITY CRITERIA</a:t>
            </a:r>
            <a:endParaRPr b="1" lang="en-US" sz="3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5000"/>
              </a:lnSpc>
              <a:spcAft>
                <a:spcPts val="1749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Defendant must be amenable to treatment and supervision (CSSD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5000"/>
              </a:lnSpc>
              <a:spcAft>
                <a:spcPts val="1749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Not more than 1 prior use of the SDP (CSSD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5000"/>
              </a:lnSpc>
              <a:spcAft>
                <a:spcPts val="1749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Excluded charges are consistent with provision set forth in the statute pertaining to Pretrial Accelerated Rehabilitation, 54-56e sub. (c)  (CSSD) --  *crimes or violations are not of a serious nature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5000"/>
              </a:lnSpc>
              <a:spcAft>
                <a:spcPts val="1749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Client found to have a psychiatric disability who would benefit from treatment.  (CSSD will refer to appropriate provider – can be CSSD’s Contracted Provider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3f2fb5"/>
                </a:solidFill>
                <a:latin typeface="Garamond"/>
              </a:rPr>
              <a:t>* C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The mental health provider will determine if the defendant has a psychiatric disability requiring treatmen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The provider will provide treatment recommendations for all eligible clie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CSSD staff will inform the court of the eligibility status/ recommendations for treatment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828800" y="274320"/>
            <a:ext cx="5410080" cy="716040"/>
          </a:xfrm>
          <a:prstGeom prst="rect">
            <a:avLst/>
          </a:prstGeom>
          <a:solidFill>
            <a:srgbClr val="e0ebf6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2fb5"/>
                </a:solidFill>
                <a:latin typeface="Garamond"/>
              </a:rPr>
              <a:t>ELIGIBILITY</a:t>
            </a:r>
            <a:endParaRPr b="1" lang="en-US" sz="36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Applications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627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Investigations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46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Pending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166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Denied \ Withdrawn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Granted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242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Approximately 50 additional Investigations are ordered each month, an increase of 50% from program inception</a:t>
            </a: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2fb5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8600"/>
            <a:ext cx="6248520" cy="1676520"/>
          </a:xfrm>
          <a:prstGeom prst="rect">
            <a:avLst/>
          </a:prstGeom>
          <a:solidFill>
            <a:srgbClr val="e0ebf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2fb5"/>
                </a:solidFill>
                <a:latin typeface="Garamond"/>
                <a:ea typeface="Arial"/>
              </a:rPr>
              <a:t>STATISTIC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Active Clients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233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Successful Completions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6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Unsuccessful Completions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3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2fb5"/>
                </a:solidFill>
                <a:latin typeface="Garamond"/>
              </a:rPr>
              <a:t>All program participants will be followed for recidivis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28600"/>
            <a:ext cx="6248520" cy="1676520"/>
          </a:xfrm>
          <a:prstGeom prst="rect">
            <a:avLst/>
          </a:prstGeom>
          <a:solidFill>
            <a:srgbClr val="e0ebf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2fb5"/>
                </a:solidFill>
                <a:latin typeface="Garamond"/>
                <a:ea typeface="Arial"/>
              </a:rPr>
              <a:t>OUTCOME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Other Pretrial Mental Health Initiatives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SIST at seven (7) AIC’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Jail Re-Interview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Jail Diversion (DMHA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REST (DMHA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6:17:04Z</dcterms:created>
  <dc:creator>State of Connecticut</dc:creator>
  <dc:description/>
  <dc:language>en-US</dc:language>
  <cp:lastModifiedBy>Sherry Avarista</cp:lastModifiedBy>
  <dcterms:modified xsi:type="dcterms:W3CDTF">2009-11-17T19:53:12Z</dcterms:modified>
  <cp:revision>85</cp:revision>
  <dc:subject/>
  <dc:title>JAIL RE-INTERVIEW  PROJECT EXPAN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