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C3A7-9794-4817-B2C1-695327DD6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D0E2-0B00-43B1-A33F-08912F848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2891-B148-4876-A53A-E72134E32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944E-64A3-47D0-B787-F08CE5CDE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BE05F-68C1-4E23-83D6-DAC163DD5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9918B-DFA6-48C8-BFEA-FCF299638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BE7A3-B8C9-4FC8-9546-4CBE63DA7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8A684-C717-41EC-A1D1-918A22796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F39C8-5A2D-442A-AD0E-6F963C0D8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6E5E4-4DC3-4C79-AB46-99FF7D2A1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4C8A3-D7D7-4F7B-BBBC-4F8607D6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1235-8174-4634-BA3F-2ADE94C6D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67CEB-FD0A-4276-9C0A-382C5E0A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5E0A8-22E1-40B8-9015-D36503BE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70551-7068-41E8-AA01-242211BB9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A797D-2930-4C10-8BD2-9627F980F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D0962-2B85-4DD1-9F0B-2BD9CE493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3B061-DE90-46B3-86D2-BC46417C3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0A54B-DD58-42CA-AEB9-3A4634172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76966-B94C-43FD-AAC1-01858A554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12FFE-0648-4F69-A475-822750278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12E0B-1C75-4EDF-953A-421F46CB4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F731-ECDC-4319-8189-51853C289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29A76-31F9-4EA2-9E50-FBEE0379C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EB461-65AC-42B2-A285-4D840946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C312F-4932-4FEA-A1A1-0BD054BE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F096C-1D20-4B31-82D9-B384CC7F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E1919-B016-4837-83DB-B72BDD7AA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4D7C9-E7E5-4D5A-9466-375005F3B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940AC-980A-46D4-AD73-977AC735A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840B-EA7F-4503-BC24-8A1CBE3F6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7F08-EACA-41C5-9FC4-47EFBC4B3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3D28-D784-4E25-96B3-DD35AE04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74D6-1FE8-471E-BF15-5FACA67E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E9FA-A339-44FC-B552-36F0544B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0E15-C961-40CD-A792-C2301260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8c6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80888-7EDE-465C-A5E6-248F4BB308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43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d2dce6"/>
                </a:gs>
                <a:gs pos="50000">
                  <a:srgbClr val="e0ebf6"/>
                </a:gs>
                <a:gs pos="100000">
                  <a:srgbClr val="d2dce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3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f3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4f7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2f6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2f6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2f6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4f7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C17E4-7308-46A1-B636-A0C52D2754A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00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d2dce6"/>
                </a:gs>
                <a:gs pos="50000">
                  <a:srgbClr val="e0ebf6"/>
                </a:gs>
                <a:gs pos="100000">
                  <a:srgbClr val="d2dce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3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f3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4f7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2f6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2f6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2f6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4f7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7a4af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9B596-A60B-4201-BF0D-E93650D4E64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Garamond"/>
              </a:rPr>
              <a:t>SUPERVISED DIVERSIONARY</a:t>
            </a:r>
            <a:br>
              <a:rPr sz="5400"/>
            </a:br>
            <a:r>
              <a:rPr b="1" lang="en-US" sz="5400" spc="-1" strike="noStrike">
                <a:solidFill>
                  <a:srgbClr val="ff3300"/>
                </a:solidFill>
                <a:latin typeface="Garamond"/>
              </a:rPr>
              <a:t>PROGRAM</a:t>
            </a:r>
            <a:br>
              <a:rPr sz="5400"/>
            </a:br>
            <a:endParaRPr b="1" lang="en-US" sz="5400" spc="-1" strike="noStrike">
              <a:solidFill>
                <a:srgbClr val="77a4a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28240" y="106668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Aft>
                <a:spcPts val="2401"/>
              </a:spcAft>
              <a:buClr>
                <a:srgbClr val="ff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f2fb5"/>
                </a:solidFill>
                <a:uFillTx/>
                <a:latin typeface="Garamond"/>
              </a:rPr>
              <a:t>54-56</a:t>
            </a:r>
            <a:r>
              <a:rPr b="1" i="1" lang="en-US" sz="3200" spc="-1" strike="noStrike" u="sng">
                <a:solidFill>
                  <a:srgbClr val="3f2fb5"/>
                </a:solidFill>
                <a:uFillTx/>
                <a:latin typeface="Garamond"/>
              </a:rPr>
              <a:t>l </a:t>
            </a:r>
            <a:r>
              <a:rPr b="1" lang="en-US" sz="3200" spc="-1" strike="noStrike" u="sng">
                <a:solidFill>
                  <a:srgbClr val="3f2fb5"/>
                </a:solidFill>
                <a:uFillTx/>
                <a:latin typeface="Garamond"/>
              </a:rPr>
              <a:t> (Effective Oct. 1, 2008)</a:t>
            </a:r>
            <a:r>
              <a:rPr b="0" lang="en-US" sz="3200" spc="-1" strike="noStrike">
                <a:solidFill>
                  <a:srgbClr val="3f2fb5"/>
                </a:solidFill>
                <a:latin typeface="Garamond"/>
              </a:rPr>
              <a:t>:  </a:t>
            </a:r>
            <a:r>
              <a:rPr b="1" lang="en-US" sz="3200" spc="-1" strike="noStrike">
                <a:solidFill>
                  <a:srgbClr val="3f2fb5"/>
                </a:solidFill>
                <a:latin typeface="Garamond"/>
              </a:rPr>
              <a:t>Created a diversionary program that combines mental health treatment with probation supervision for defendants with psychiatric disabilities.</a:t>
            </a:r>
            <a:r>
              <a:rPr b="1" lang="en-US" sz="3200" spc="-1" strike="noStrike" u="sng">
                <a:solidFill>
                  <a:srgbClr val="3f2fb5"/>
                </a:solidFill>
                <a:uFillTx/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Aft>
                <a:spcPts val="2401"/>
              </a:spcAft>
              <a:buClr>
                <a:srgbClr val="ff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2fb5"/>
                </a:solidFill>
                <a:latin typeface="Garamond"/>
              </a:rPr>
              <a:t>Psychiatric disability is defined as a mental or emotional condition, other than solely substance abuse, that has substantial adverse effects on the defendant’s ability to function and requires care and treatment *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8520" indent="0"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2fb5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3f2fb5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3f2fb5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3f2fb5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3f2fb5"/>
                </a:solidFill>
                <a:latin typeface="Garamond"/>
              </a:rPr>
              <a:t>* Per  CGS 54-56</a:t>
            </a:r>
            <a:r>
              <a:rPr b="1" i="1" lang="en-US" sz="3200" spc="-1" strike="noStrike">
                <a:solidFill>
                  <a:srgbClr val="3f2fb5"/>
                </a:solidFill>
                <a:latin typeface="Garamond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8520" indent="0"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8520" indent="0"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228600"/>
            <a:ext cx="5791320" cy="533520"/>
          </a:xfrm>
          <a:prstGeom prst="rect">
            <a:avLst/>
          </a:prstGeom>
          <a:solidFill>
            <a:srgbClr val="e0ebf6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2fb5"/>
                </a:solidFill>
                <a:latin typeface="Garamond"/>
                <a:ea typeface="Arial"/>
              </a:rPr>
              <a:t>BACKGROU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solidFill>
            <a:srgbClr val="e0ebf6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f2fb5"/>
                </a:solidFill>
                <a:latin typeface="Garamond"/>
              </a:rPr>
              <a:t>OVERVIEW  OF ELIGIBILITY CRITERIA</a:t>
            </a:r>
            <a:endParaRPr b="1" lang="en-US" sz="3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5000"/>
              </a:lnSpc>
              <a:spcAft>
                <a:spcPts val="1749"/>
              </a:spcAft>
              <a:buClr>
                <a:srgbClr val="ff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2fb5"/>
                </a:solidFill>
                <a:latin typeface="Garamond"/>
              </a:rPr>
              <a:t>Defendant must be amenable to treatment and supervision (CSSD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95000"/>
              </a:lnSpc>
              <a:spcAft>
                <a:spcPts val="1749"/>
              </a:spcAft>
              <a:buClr>
                <a:srgbClr val="ff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2fb5"/>
                </a:solidFill>
                <a:latin typeface="Garamond"/>
              </a:rPr>
              <a:t>Not more than 1 prior use of the SDP (CSSD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95000"/>
              </a:lnSpc>
              <a:spcAft>
                <a:spcPts val="1749"/>
              </a:spcAft>
              <a:buClr>
                <a:srgbClr val="ff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2fb5"/>
                </a:solidFill>
                <a:latin typeface="Garamond"/>
              </a:rPr>
              <a:t>Excluded charges are consistent with provision set forth in the statute pertaining to Pretrial Accelerated Rehabilitation, 54-56e sub. (c)  (CSSD) --  *crimes or violations are not of a serious nature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95000"/>
              </a:lnSpc>
              <a:spcAft>
                <a:spcPts val="1749"/>
              </a:spcAft>
              <a:buClr>
                <a:srgbClr val="ff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2fb5"/>
                </a:solidFill>
                <a:latin typeface="Garamond"/>
              </a:rPr>
              <a:t>Client found to have a psychiatric disability who would benefit from treatment.  (CSSD will refer to appropriate provider – can be CSSD’s Contracted Provider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0">
              <a:lnSpc>
                <a:spcPct val="95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2fb5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3f2fb5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3f2fb5"/>
                </a:solidFill>
                <a:latin typeface="Garamond"/>
              </a:rPr>
              <a:t>* CG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0">
              <a:lnSpc>
                <a:spcPct val="95000"/>
              </a:lnSpc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spcAft>
                <a:spcPts val="2001"/>
              </a:spcAft>
              <a:buClr>
                <a:srgbClr val="ff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2fb5"/>
                </a:solidFill>
                <a:latin typeface="Garamond"/>
              </a:rPr>
              <a:t>The mental health provider will determine if the defendant has a psychiatric disability requiring treatmen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spcAft>
                <a:spcPts val="2001"/>
              </a:spcAft>
              <a:buClr>
                <a:srgbClr val="ff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2fb5"/>
                </a:solidFill>
                <a:latin typeface="Garamond"/>
              </a:rPr>
              <a:t>The provider will provide treatment recommendations for all eligible client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spcAft>
                <a:spcPts val="2001"/>
              </a:spcAft>
              <a:buClr>
                <a:srgbClr val="ff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2fb5"/>
                </a:solidFill>
                <a:latin typeface="Garamond"/>
              </a:rPr>
              <a:t>CSSD staff will inform the court of the eligibility status/ recommendations for treatment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1828800" y="274320"/>
            <a:ext cx="5410080" cy="716040"/>
          </a:xfrm>
          <a:prstGeom prst="rect">
            <a:avLst/>
          </a:prstGeom>
          <a:solidFill>
            <a:srgbClr val="e0ebf6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2fb5"/>
                </a:solidFill>
                <a:latin typeface="Garamond"/>
              </a:rPr>
              <a:t>ELIGIBILITY</a:t>
            </a:r>
            <a:endParaRPr b="1" lang="en-US" sz="3600" spc="-1" strike="noStrike">
              <a:solidFill>
                <a:srgbClr val="77a4a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85440" y="22860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Clr>
                <a:srgbClr val="ff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2fb5"/>
                </a:solidFill>
                <a:latin typeface="Garamond"/>
              </a:rPr>
              <a:t>Applications</a:t>
            </a:r>
            <a:r>
              <a:rPr b="1" lang="en-US" sz="2400" spc="-1" strike="noStrike">
                <a:solidFill>
                  <a:srgbClr val="3f2fb5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3f2fb5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3f2fb5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3f2fb5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3f2fb5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3f2fb5"/>
                </a:solidFill>
                <a:latin typeface="Garamond"/>
              </a:rPr>
              <a:t>627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Clr>
                <a:srgbClr val="ff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2fb5"/>
                </a:solidFill>
                <a:latin typeface="Garamond"/>
              </a:rPr>
              <a:t>Investigations</a:t>
            </a:r>
            <a:r>
              <a:rPr b="1" lang="en-US" sz="2400" spc="-1" strike="noStrike">
                <a:solidFill>
                  <a:srgbClr val="3f2fb5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3f2fb5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3f2fb5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3f2fb5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3f2fb5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3f2fb5"/>
                </a:solidFill>
                <a:latin typeface="Garamond"/>
              </a:rPr>
              <a:t>468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Clr>
                <a:srgbClr val="ff33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2fb5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3f2fb5"/>
                </a:solidFill>
                <a:latin typeface="Garamond"/>
              </a:rPr>
              <a:t>Pending</a:t>
            </a:r>
            <a:r>
              <a:rPr b="1" lang="en-US" sz="2400" spc="-1" strike="noStrike">
                <a:solidFill>
                  <a:srgbClr val="3f2fb5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3f2fb5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3f2fb5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3f2fb5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3f2fb5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3f2fb5"/>
                </a:solidFill>
                <a:latin typeface="Garamond"/>
              </a:rPr>
              <a:t>166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Clr>
                <a:srgbClr val="ff33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2fb5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3f2fb5"/>
                </a:solidFill>
                <a:latin typeface="Garamond"/>
              </a:rPr>
              <a:t>Denied \ Withdrawn</a:t>
            </a:r>
            <a:r>
              <a:rPr b="1" lang="en-US" sz="2400" spc="-1" strike="noStrike">
                <a:solidFill>
                  <a:srgbClr val="3f2fb5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3f2fb5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3f2fb5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3f2fb5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3f2fb5"/>
                </a:solidFill>
                <a:latin typeface="Garamond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Clr>
                <a:srgbClr val="ff33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2fb5"/>
                </a:solidFill>
                <a:latin typeface="Garamond"/>
              </a:rPr>
              <a:t>  </a:t>
            </a:r>
            <a:r>
              <a:rPr b="1" lang="en-US" sz="2400" spc="-1" strike="noStrike">
                <a:solidFill>
                  <a:srgbClr val="3f2fb5"/>
                </a:solidFill>
                <a:latin typeface="Garamond"/>
              </a:rPr>
              <a:t>Granted</a:t>
            </a:r>
            <a:r>
              <a:rPr b="1" lang="en-US" sz="2400" spc="-1" strike="noStrike">
                <a:solidFill>
                  <a:srgbClr val="3f2fb5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3f2fb5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3f2fb5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3f2fb5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3f2fb5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3f2fb5"/>
                </a:solidFill>
                <a:latin typeface="Garamond"/>
              </a:rPr>
              <a:t>242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Clr>
                <a:srgbClr val="ff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2fb5"/>
                </a:solidFill>
                <a:latin typeface="Garamond"/>
              </a:rPr>
              <a:t>Approximately 50 additional Investigations are ordered each month, an increase of 50% from program inception</a:t>
            </a:r>
            <a:r>
              <a:rPr b="1" lang="en-US" sz="2400" spc="-1" strike="noStrike">
                <a:solidFill>
                  <a:srgbClr val="3f2fb5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2fb5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"/>
          <p:cNvSpPr/>
          <p:nvPr/>
        </p:nvSpPr>
        <p:spPr>
          <a:xfrm>
            <a:off x="1371600" y="228600"/>
            <a:ext cx="6248520" cy="1676520"/>
          </a:xfrm>
          <a:prstGeom prst="rect">
            <a:avLst/>
          </a:prstGeom>
          <a:solidFill>
            <a:srgbClr val="e0ebf6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2fb5"/>
                </a:solidFill>
                <a:latin typeface="Garamond"/>
                <a:ea typeface="Arial"/>
              </a:rPr>
              <a:t>STATISTIC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85440" y="22860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Clr>
                <a:srgbClr val="ff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2fb5"/>
                </a:solidFill>
                <a:latin typeface="Garamond"/>
              </a:rPr>
              <a:t>Active Clients</a:t>
            </a:r>
            <a:r>
              <a:rPr b="1" lang="en-US" sz="3200" spc="-1" strike="noStrike">
                <a:solidFill>
                  <a:srgbClr val="3f2fb5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3f2fb5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3f2fb5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3f2fb5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3f2fb5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3f2fb5"/>
                </a:solidFill>
                <a:latin typeface="Garamond"/>
              </a:rPr>
              <a:t>233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Clr>
                <a:srgbClr val="ff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2fb5"/>
                </a:solidFill>
                <a:latin typeface="Garamond"/>
              </a:rPr>
              <a:t>Successful Completions</a:t>
            </a:r>
            <a:r>
              <a:rPr b="1" lang="en-US" sz="3200" spc="-1" strike="noStrike">
                <a:solidFill>
                  <a:srgbClr val="3f2fb5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3f2fb5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3f2fb5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3f2fb5"/>
                </a:solidFill>
                <a:latin typeface="Garamond"/>
              </a:rPr>
              <a:t>6</a:t>
            </a:r>
            <a:r>
              <a:rPr b="1" lang="en-US" sz="3200" spc="-1" strike="noStrike">
                <a:solidFill>
                  <a:srgbClr val="3f2fb5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3f2fb5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Clr>
                <a:srgbClr val="ff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2fb5"/>
                </a:solidFill>
                <a:latin typeface="Garamond"/>
              </a:rPr>
              <a:t>Unsuccessful Completions</a:t>
            </a:r>
            <a:r>
              <a:rPr b="1" lang="en-US" sz="3200" spc="-1" strike="noStrike">
                <a:solidFill>
                  <a:srgbClr val="3f2fb5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3f2fb5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3f2fb5"/>
                </a:solidFill>
                <a:latin typeface="Garamond"/>
              </a:rPr>
              <a:t>3</a:t>
            </a:r>
            <a:r>
              <a:rPr b="1" lang="en-US" sz="3200" spc="-1" strike="noStrike">
                <a:solidFill>
                  <a:srgbClr val="3f2fb5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3f2fb5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3f2fb5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Clr>
                <a:srgbClr val="ff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2fb5"/>
                </a:solidFill>
                <a:latin typeface="Garamond"/>
              </a:rPr>
              <a:t>All program participants will be followed for recidivism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5" name=""/>
          <p:cNvSpPr/>
          <p:nvPr/>
        </p:nvSpPr>
        <p:spPr>
          <a:xfrm>
            <a:off x="1371600" y="228600"/>
            <a:ext cx="6248520" cy="1676520"/>
          </a:xfrm>
          <a:prstGeom prst="rect">
            <a:avLst/>
          </a:prstGeom>
          <a:solidFill>
            <a:srgbClr val="e0ebf6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2fb5"/>
                </a:solidFill>
                <a:latin typeface="Garamond"/>
                <a:ea typeface="Arial"/>
              </a:rPr>
              <a:t>OUTCOMES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a4af"/>
                </a:solidFill>
                <a:latin typeface="Garamond"/>
              </a:rPr>
              <a:t>Other Pretrial Mental Health Initiatives</a:t>
            </a:r>
            <a:endParaRPr b="1" lang="en-US" sz="40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SIST at seven (7) AIC’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Jail Re-Interview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Jail Diversion (DMHAS)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REST (DMHAS)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9T16:17:04Z</dcterms:created>
  <dc:creator>State of Connecticut</dc:creator>
  <dc:description/>
  <dc:language>en-US</dc:language>
  <cp:lastModifiedBy>Sherry Avarista</cp:lastModifiedBy>
  <dcterms:modified xsi:type="dcterms:W3CDTF">2009-11-17T19:53:12Z</dcterms:modified>
  <cp:revision>85</cp:revision>
  <dc:subject/>
  <dc:title>JAIL RE-INTERVIEW  PROJECT EXPANS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