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5E0-6DD5-4ADD-9A45-E1A3854B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CFF-1304-45AB-918A-EC8867B5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A34-237E-470A-8866-4FDD4BC2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071-56BD-4C5E-9A39-64057008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4F3C-3570-45CA-B71B-A86EA33F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A9F8-6395-482C-A8A1-9F3BF3C3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071-7133-4A31-BC16-80DA5DE4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BE06-EEA1-4118-81B1-2B299756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CB98-F96B-4919-8FC0-B28A69FC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64F5-835F-45EB-9DB5-4C914E98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2077-CE37-4164-8210-619E32AA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F3D-CE75-4973-851E-7969AB82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6380-8EA4-4507-8DB8-6E20094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0639-FC15-4F76-B928-AB616B4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368-F36C-4185-9896-33E435A6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492D-488F-4506-A625-31570675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DCE5-6E8C-4643-9E15-8B22B638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E1C2-9528-4297-9E0D-AF303A82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E2E6-1F5D-4BE8-894C-EEC17236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300B-F000-4B50-97A1-5380AA43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CE17-8D34-417E-99DE-1F713D2F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2F1DD-8B72-4AF6-8248-02E7A5AB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109-A0EC-44DD-9B58-614407E6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5795-CEE6-4EC3-BA46-DE9F0D1A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1A631-9B52-4954-A334-3103216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BE4D-E52E-40EF-95C7-743CA8A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50FB-558D-4267-895C-01367D6A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FBE5-7BED-4E07-A962-79FBFC41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BBFC-8B7F-45A2-8A12-37ACFA6F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26FE-8310-4184-A43E-317FD6BC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703-6D23-4CA8-9772-1A121B14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A0B-4A70-4370-B767-6E6473F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8D1-4786-4FD2-82B4-F45618B3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B08-C1D3-4F8F-838F-A15D14A4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9F8-5A2A-44BE-93F9-67651F56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DA2-E556-4339-876F-9F612C74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876D-3C79-45F6-BCF0-5057755C79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F325-82AA-4C87-AF34-479C6970ED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0218-D342-4726-8280-2460A99A3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 of Connecticut Judicial Branch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rt Support Services Divis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BA Report Card – Adult Proba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vember 10, 20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to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minal Justice Policy Advisory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1680" y="52560"/>
            <a:ext cx="23238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85800" y="1219320"/>
          <a:ext cx="7848720" cy="37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8487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month re-arrest rates for clients who complete AIC services is generally dec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gislative Program Review and Investigations Committee study in 2004 found that 44 percent of AIC participants were re-arrested within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C Completer 12-month Rearrest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99BF-8E56-4A66-9F4E-D0D7136559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Much Do We Do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Probation Caseloa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295280"/>
          <a:ext cx="791532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7915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umber of probationers on active caseloads has decreased by 22 percent since January 2010, while the total supervision caseload has decreased by only six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robation intake decreased in FY 2010 by five percent to 26,900 from a five year average of 28,3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verage caseload of a supervision officer in January 2009 was 91;today the average is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3873-B599-411D-885E-B7901870B4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Well Do We Do I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Probation Treatment Timelin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143000"/>
          <a:ext cx="792504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9250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tion Officers are required to make timely referrals that result in  probationers starting treatment within 30 days following the completion of a cas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formance in this metric has increased by 39 percentage points over the 2009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84D78-09CA-413A-8CAD-46EBD10842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Probation Technical Violation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295280"/>
          <a:ext cx="80769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0769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violation rates have trended lower compared to previous years, showing a reduction of over 20 percent from 2007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such as the Technical Violation Units and more consistent application of policy and procedure have contributed to this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9C73-C9EB-477F-B0A3-FE200D1150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s Anyone Better Off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Probation Successful Completion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295280"/>
          <a:ext cx="80769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0769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of probation without warrant activity has consistently been at or above the established goal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ly, the rate of successful completion of probation is 59-62 percent (Bureau of Justice Statis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17FD1-6051-437B-95C2-F98A15FF30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85800" y="1295280"/>
          <a:ext cx="7772400" cy="37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77240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one percentage point drop in the re-arrest rate, sustained over a full year, results in approximately 280 fewer persons recidivating annually.  A five percentage point drop results in 1,400 fewer recidivists (based on ~28,000 new probationers ann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 Probation 24-month Rearrest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-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04D41-48AE-414F-89E3-DD1CB73721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6:56:10Z</dcterms:created>
  <dc:creator>Brian Hill</dc:creator>
  <dc:description/>
  <dc:language>en-US</dc:language>
  <cp:lastModifiedBy>State of Connecticut</cp:lastModifiedBy>
  <dcterms:modified xsi:type="dcterms:W3CDTF">2010-11-09T14:02:14Z</dcterms:modified>
  <cp:revision>25</cp:revision>
  <dc:subject/>
  <dc:title>Judiciary Committee Oversight Hearing   2008 Criminal Justice Refor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