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750-7AC1-4EB8-885A-D61BE364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523B-695F-4628-978C-3F717130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82E9-CF43-4FC5-997D-D5D30C24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0DCA-C3D7-4C06-A651-124EA6F2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EB2E-0DC7-4744-BD80-3D3EE999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9AEE-22C1-4EBF-A7AC-9D5984EA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C525-3EA6-4A7B-A88F-19D0DF31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EF8C-2140-4DBF-A0A6-56D27959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984A-2B2C-44CD-8ABB-A3B83E3B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CDAD-4B50-4646-9EC7-7F4EA5DC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5934-CA47-4A72-85B8-4B00D770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B80-0332-43F4-BED0-B1927068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DC1C-6E15-422F-8B39-322AC9F2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5312-D858-428C-91B3-D0AB318F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B2BB-7E69-49E2-8A55-86A10271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2860-C50A-4F47-ADA9-80442927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9D41-1A61-463A-846C-2B7F67CF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53AD3-78D0-4A61-A9DC-DC4E919B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5C59B-6F83-4449-B5DE-399F337B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6CEF9-46A0-473F-94AC-CE72617D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4FBB0-B170-43AC-B664-9375D686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74BAB-2472-4C1D-A8C2-B2131FE5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D05E-86E8-4178-B774-BE4A7800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349DC-24A1-44CB-A514-ACD6C61C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9EB6B-9B6B-47E4-9098-98DE754B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A0DA0-6335-4604-B17C-EC34B07A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E4625-BEF6-48DA-80BC-D65F14ED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B7385-61BF-4FEC-A9AD-9E2C4FE3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56D61-74EA-4890-A9B4-2F4041A3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A270C-7730-485D-8517-BF478BF8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3FCF-2005-4D51-AFDB-2A4A9BA0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FA3-4D60-46AD-98B1-FAE1436A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BC26-9B0B-431C-B04A-E6B24C69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920-1A36-4D69-82D0-773A8714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74D-54C4-4AF5-8AF5-D3917593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EFA-73F1-41FD-BABA-11234F3A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F7E4-E807-4CBB-8B2A-792C60948A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D18F-11E8-4E5B-82F1-4471CB81F2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5E2B-8D21-4A73-877A-54B315241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124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te of Connecticut Judicial Branch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urt Support Services Divisio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BA Report Card – Adult Probatio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vember 10, 201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to th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minal Justice Policy Advisory Com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71680" y="52560"/>
            <a:ext cx="232380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685800" y="1219320"/>
          <a:ext cx="7848720" cy="373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784872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10552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-month re-arrest rates for clients who complete AIC services is generally dec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egislative Program Review and Investigations Committee study in 2004 found that 44 percent of AIC participants were re-arrested within 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C Completer 12-month Rearrest R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-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3003C-8F3E-4C56-A891-5AF1DC197B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ow Much Do We Do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Probation Caseloa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09480" y="1295280"/>
          <a:ext cx="791532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79153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umber of probationers on active caseloads has decreased by 22 percent since January 2010, while the total supervision caseload has decreased by only six per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probation intake decreased in FY 2010 by five percent to 26,900 from a five year average of 28,3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verage caseload of a supervision officer in January 2009 was 91;today the average is 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77443-FDD1-4C72-BF24-924EE66DB4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ow Well Do We Do It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 Probation Treatment Timeline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09480" y="1143000"/>
          <a:ext cx="792504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79250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tion Officers are required to make timely referrals that result in  probationers starting treatment within 30 days following the completion of a cas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rformance in this metric has increased by 39 percentage points over the 2009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EA3A2-A5F3-4556-AAD1-21E707DFED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 Probation Technical Violation R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-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3520" y="1295280"/>
          <a:ext cx="807696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80769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violation rates have trended lower compared to previous years, showing a reduction of over 20 percent from 2007-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 such as the Technical Violation Units and more consistent application of policy and procedure have contributed to this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1D35B-6B0C-49F8-9AE1-547C7EC824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s Anyone Better Off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 Probation Successful Completion R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-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3520" y="1295280"/>
          <a:ext cx="807696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80769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487692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ion of probation without warrant activity has consistently been at or above the established goal in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ly, the rate of successful completion of probation is 59-62 percent (Bureau of Justice Statist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BF40E-8403-487B-A6D2-104A1F8AF9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685800" y="1295280"/>
          <a:ext cx="7772400" cy="371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777240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one percentage point drop in the re-arrest rate, sustained over a full year, results in approximately 280 fewer persons recidivating annually.  A five percentage point drop results in 1,400 fewer recidivists (based on ~28,000 new probationers annu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 Probation 24-month Rearrest R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-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7A33B-999C-45CE-AC4E-86987ABB4F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6:56:10Z</dcterms:created>
  <dc:creator>Brian Hill</dc:creator>
  <dc:description/>
  <dc:language>en-US</dc:language>
  <cp:lastModifiedBy>State of Connecticut</cp:lastModifiedBy>
  <dcterms:modified xsi:type="dcterms:W3CDTF">2010-11-09T14:02:14Z</dcterms:modified>
  <cp:revision>25</cp:revision>
  <dc:subject/>
  <dc:title>Judiciary Committee Oversight Hearing   2008 Criminal Justice Refor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