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CC0-C3B6-4F7A-AB0F-520DDA6F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726-08F4-48B3-87D9-3F6AFA5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605-6569-4569-B7A0-771D2F51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634-5080-4C0D-8728-7317FED7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912-4331-41DA-8D49-078BDAE7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C9E-F0A6-49D1-90F8-CE843743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270-B453-41BE-8D4A-593DB9DE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FFC-CD22-4B46-B980-8D7C69FF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DC4-6194-41CC-A255-AC9572C3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20F-FDF8-48DE-A1D4-10F8000C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04C-AEF5-4943-8536-B3CF836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241-645E-469B-B492-A2639D45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8B7-261C-4E7B-B7CB-F0DF4ACD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partment of Correction’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incarcerated population on September 4, 200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19,043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otal i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ore than were incarcerated on September 4, 2006, an increase of  .89 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used population on September 4, 2007 was 440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is total is 228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tember 4, 200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tal, a decreas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d population (incarcerated) on September 4, 2007 is 14,63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is i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ove the September 4, 2006 total, an increase of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number of offenders supervised in the community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ole, Special Parole, Transitional Supervision, Transfer Parole and Transitional Plac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roximately 3,680.  This reflects an approxima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35 percent incr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p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partment contracts for over 1,200 halfway house beds.  These are filled virtually at al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75 percent increase in such beds since 200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umber of offenders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e-entry furlough on September 1, 2007 was  13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This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95 belo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ptember 1, 200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tal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3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9.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cent decr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2:09:25Z</dcterms:created>
  <dc:creator>Karl G. Lewis</dc:creator>
  <dc:description/>
  <dc:language>en-US</dc:language>
  <cp:lastModifiedBy>Sherry Avarista</cp:lastModifiedBy>
  <cp:lastPrinted>2007-09-05T12:01:55Z</cp:lastPrinted>
  <dcterms:modified xsi:type="dcterms:W3CDTF">2007-09-19T18:48:51Z</dcterms:modified>
  <cp:revision>33</cp:revision>
  <dc:subject/>
  <dc:title>D.O.C. Population Update</dc:title>
</cp:coreProperties>
</file>