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DFB-80AE-4620-B2A7-DA31F942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C84-51A6-4ACA-9D6F-CCC5A60B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AF2-E299-40E2-89E7-00223D4A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699-1D46-499B-9B8D-C6EAD4A3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252-553C-433B-86D5-BB517BFB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974-52C0-477A-987B-BA7C142C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D6D-058D-4046-BA69-D3C8936F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21F-A667-49C2-A30B-C61FF96D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1A7-B366-4373-A8EB-78E37902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E4B-E63B-43F3-9A77-D7A6C525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AF0-25FD-4485-BBAC-40673FB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C09-6D10-4B2C-8893-5725BF60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4295-01B4-40CD-BFE9-579BF129C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O.C. Popul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partment of Correction’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incarcerated population on September 4, 200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19,043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otal is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more than were incarcerated on September 4, 2006, an increase of  .89 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O.C. Popul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used population on September 4, 2007 was 440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is total is 228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ptember 4, 200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tal, a decreas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O.C. Popul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tenced population (incarcerated) on September 4, 2007 is 14,63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is is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ove the September 4, 2006 total, an increase of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O.C. Popul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number of offenders supervised in the community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ole, Special Parole, Transitional Supervision, Transfer Parole and Transitional Plac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roximately 3,680.  This reflects an approxima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35 percent incr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past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O.C. Popul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partment contracts for over 1,200 halfway house beds.  These are filled virtually at all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75 percent increase in such beds since 200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O.C. Popul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umber of offenders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e-entry furlough on September 1, 2007 was  13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This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95 belo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ptember 1, 200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otal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3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9.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cent decr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2:09:25Z</dcterms:created>
  <dc:creator>Karl G. Lewis</dc:creator>
  <dc:description/>
  <dc:language>en-US</dc:language>
  <cp:lastModifiedBy>Sherry Avarista</cp:lastModifiedBy>
  <cp:lastPrinted>2007-09-05T12:01:55Z</cp:lastPrinted>
  <dcterms:modified xsi:type="dcterms:W3CDTF">2007-09-19T18:48:51Z</dcterms:modified>
  <cp:revision>33</cp:revision>
  <dc:subject/>
  <dc:title>D.O.C. Population Update</dc:title>
</cp:coreProperties>
</file>