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6DC-7E19-4889-9BD7-86213DA3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2A0-8101-4567-82C7-69A2B4A7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3DBCB9-3EC5-45AB-ADFD-A7E13EFC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783E3-531C-4D23-BC53-00355C46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FDB57-1A14-428E-9EE9-410678ED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44765B-605D-49D9-B197-DC7EAE8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2A1D52-CF6D-4691-B5A4-AECFF69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F44053-006B-4B7C-9E67-A44E618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0D3540-2F09-49D3-9345-3DB1E676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8CA7F-7AF3-445B-AFB9-DA6FAE6D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3E2F55-1449-4361-9815-6AD9F20B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640B1-CDFA-4555-ADF1-527C6D74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081-E1D2-4D14-89CD-F7D9DB65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1B24F-45A9-4752-B734-B8576FDA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AF2F8-08E8-4463-8FF1-0D76A5AF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FB740-BA36-46E9-A2A6-F55F85F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C2198-943E-4F02-A0FE-129CC0CF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5D2CC-80E5-4C3D-979D-E47FD784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BD7D4-FC28-495D-A665-DC5C4B9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467BB-5833-44F9-A9C4-69CC092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66190-F1FE-4715-AEFA-FEA56B21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A6398-2351-4737-8D32-BB3337AD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8B03E-5063-4AC4-ADA2-2C9C6F50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31D-4C11-4FEE-9D15-B300F10C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16DC4-45F1-4C0D-BBB6-2EDE7AE6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0441-A36C-4A73-894A-ABD7CE5C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1574-3931-4336-9AD4-07E302B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531E-689A-4AE1-BE90-DC0C8ED6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FB0C-1BE2-43AA-A203-62A5EA24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47DA-C5E1-47C0-990A-609484A9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477-09F9-4201-854B-FDAFAC5D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77BC-F858-4708-A834-204692F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95F-58C4-4EEC-8598-4318FF8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02B0-C4D5-4C5E-9DAB-136E4DE9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36C6-1037-4701-A8D0-391EE61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6EEB-AF3E-4709-9471-B83E485E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2335-D8AD-40FD-B8DB-073B4599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7852-D99E-4B1E-9A18-237D8697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6086-59F3-4157-93C5-991A07D6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D042A-DDA9-4071-896F-5904E478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48F8-1E3C-49DF-8DAA-C3ADEF35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A265-AE3A-4CBE-8D25-D37CAE5C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FC23-5119-44DF-A0B8-9AFDB434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8BD-0A20-44F3-BC60-99B9CDAC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F41D-28BD-4835-B859-3D04CB0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4E05-E0C8-4898-9CFD-BDC99EC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6FEE-21E4-4DBD-B02E-280744AD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4DFA-3953-42C3-AB0B-8866F7A5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7F1E-22B7-4689-992E-E7479905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2CE7-07A6-4753-B0C9-6285B608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2F57-1997-403C-B0B4-206A536F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2052-AE58-44AE-9C12-B2AA70F3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7CA1-A882-4A5B-AB83-FACF2630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06F9-A4AA-4A12-B30B-8B2AF006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816-7946-4627-8393-FB9A7D48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F680-EF26-4EF6-8CF7-584AF1EA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C27A-CA46-427E-9AB5-7F1C3583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E9BB-5F29-4FD7-8D63-B15C3284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AAEA-DDA4-408A-8163-629D679D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BADB-A74A-4D52-9C9C-5FF1277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1CAB-FF2D-40BF-9542-7C47274A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AB05-7990-4FC1-B366-912A3BE0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A261-1725-49EA-8FCE-B1AAB6BE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54C9D-ABC1-445F-8CEA-912CDC32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1B98-A7A1-4A7B-9C77-4E8DFD84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C34-3343-4ECD-BA68-80F323D3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4C75-A110-4FD9-ABDC-D6CADE0C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5A54-C7DE-4731-A157-BF53A0B0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A663E-0A34-40C6-B943-336EF55A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253A-C039-40A4-89A3-C7846094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3CC1B-E7F6-4404-86DB-6C99E226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6D583-31C2-4E77-81E7-B372613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8D97-3AAB-4DBF-B44E-8166DA9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A656D-088D-4FDD-BF5E-D75F1F6E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B7B2F-F5A2-4B71-8531-856072B5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13F1A-2634-47A7-84C7-01E5DF45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424-AF40-444E-A833-A95088D2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F427-5EFF-488A-8486-D17B369B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0AE73-FE88-42CF-9245-9FF8F2CA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80CEF-F294-4DF4-B732-BCCAE6A9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3BBF-C70A-4F4C-91A2-EF7F3CC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504FC-0221-4886-9C5A-08FD8305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7CD51-28BC-48A6-8C0C-7A0102B6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F6C99-4204-4597-94E5-2190463D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C09E-9B22-47A3-AECC-66D8C60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A399-21B1-46AE-91D4-84E8FFD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DAF7-D3E6-4095-9BD3-DEB2269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019-18F6-49AE-87C9-E1C9E85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9C2E3-97DA-4BDB-B548-F8962680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9F32-59F8-4A71-90E5-B22A2D3A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19CD3-7EC2-4EDE-BC59-0F32C533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492C6-BFC1-46AC-99A7-A2D56A3A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63BC7-1E40-4E22-9970-552C4576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A647-3860-4FC7-8633-60DF2240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9DFEB-4F97-47BA-96C8-274EDE8A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E202-6E38-416C-BF7E-33C3CD39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A32B-EF9A-4394-B4D6-99CA8FD6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E3F4-5D6D-4461-A069-117D17E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1C3-C4EA-4A4D-AA58-8C41F727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E697C-B6DF-4FB2-B09D-F283FDF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DB56-71E5-4E9B-8E0C-5FD045DC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DAEB6-136E-4F51-87AE-C150C529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430BD-0B6B-42D0-A77B-2B5035ED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1BA53-5CDE-4D32-A905-510B33A9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CCEF8-C9ED-49D5-BC70-1FE2C3FC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314E9-467A-486A-9050-46EC7D94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AC7EB-7B31-4F20-8D23-4CDF3518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71A7A-2688-4CAB-B1CD-CAC53721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3C126-EC6A-4730-8FF9-B76583DE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AB6-B75E-4B9F-A7F4-6FEC2DE4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DB617-A615-4BC2-AD89-E0282304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2A466-F980-4263-B747-B1B6849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B42AA-8AE3-4330-A57B-B423C75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E045-56E8-463E-91EF-7119811C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8EDA-0511-45A4-96BB-124F3546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47860-7DD8-4D19-A52D-65AF095C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456C6-6958-4C89-AFAB-C05E7A7F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29F713-2CF4-42C2-ADBE-8438987E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BD4B65-815C-4CC7-81DC-ACC4A0C2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79A4E5-D9F8-4357-86C2-105D3F8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CFD-91F1-41E9-BCB9-1E18B69399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7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18BC-2717-496D-A18B-EC446447F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2DAD-D778-4A7E-B65F-C07A71EBD4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F57F-B64D-4B30-A101-B8B6B25BC3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FDF-AEEF-4674-B698-41A63985B6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38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9369-921B-4415-A7B0-B37F9B2C8B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83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218F-A865-418C-9F85-115D4FF595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2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3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5D65-868D-4FE4-8CC9-8DCC971C33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7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7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98D7-78E2-448F-9B5B-243189F613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6258-E7A6-4FC6-BCB7-609900759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 OF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BLIC DEFENDER SERVIC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4560" y="426708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O. Storey, Chief Public Def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an S. Carlow, Deputy Chief Public Def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tember 14,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0777-041C-48E7-BF82-C92666D07C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Social Worker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 Public Defender system = national indigent defense model with social workers in every o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ocial Workers are masters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to develop alternatives to incarceration –pretrial and post trial -reduce prison overcrow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vings to the state through alternativ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s with CSSD re: Prison Overcrowding pre-sentence and postconvi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DMHAS re: Jail Di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B082-8B1A-4F95-A531-2345A0C8DF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uvenile Post Conviction and Re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few national juvenile defense reen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hildren committed to DCF as delinquent are tracked and represented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Intervention, Permanency Planning, Family re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0A32-E228-476B-A9DC-2FA0FCC449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law Impact on Ag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te v. Casia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82 Conn. 614 (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s to Correct Illegal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sel must be appointed to represent defend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sel files a limited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laims required to be reviewed &amp; determination whether sound basis exists to pro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sel reports to court whether a legitimate 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egitimate – Counsel files full appearance &amp; purs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through appellat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ound basis – Counsel reports to court, full appearance not filed &amp; defendant notified can continue pro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798465-365F-4106-83F0-D0BB98737E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xpected Impac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work load on trial, appellate &amp; habeas attor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sian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eas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. 7% increase from 05-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Felony Cases – as of 9/5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 Capital Felony cases pen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3 –prosecution seeking dea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4 – represented by DP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442FB-EADC-4754-9F54-8ED795093C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omestic Violence Dock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 Intens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Attorneys and Social Wor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ed attorneys to New Haven, Hartford and Waterbury offices for DV doc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on -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.A. 07-123, An Act Concerning Domestic Violenc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E0A08-0B6E-4A54-933B-8879235A8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alized Dock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omestic Viol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rug Cou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un Cou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using Cou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tor Vehic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SR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uthful Off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81967-D964-4562-B935-418F690EF0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teral Consequences of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ory Minimum Sent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 Off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.A. 07-143 - An Act Concerning Jessica’s Law and Consensual Sexual Activity Between Adolescents Close in 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datory minimums/enhancement of penalties/tender years exce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June Special Session 07-04 - An Act Implementing the Provisions of the Budget Concerning General Gover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on requirements/residency restrictions/elimination of statute of 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61F48C-3183-44AD-B90F-26E608635F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teral Consequences of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 the Age Juvenile Juris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June Special Session 07-04 - An Act Implementing the Provisions of the Budget Concerning General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D3687A-89D0-477D-B719-BF56D26785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llateral Consequences of Legisl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Transcrip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June Special Session 07-04 - An Act Implementing the Provisions of the Budget Concerning General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dom of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ests from in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B5178-2137-4CB0-871B-4B5D8898D1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ther Factors Which Impact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Goo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th in Sentencing – 8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trikes –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87B2-302A-4ABC-85FF-A4913C407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Office of Chief Public Defender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Administrative Services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Financial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Human Resources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Information Services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Juvenile Delinquency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Legal Counsel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Data Processing and Technical Support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Training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Special Public Defenders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hief Social Worker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hief Investigator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E98D-55CB-494B-947D-DB003A390A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 OF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BLIC DEFENDER SERVIC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304560" y="426708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O. Storey, Chief Public Def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an S. Carlow, Deputy Chief Public Def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tember 14,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464-452D-4D8E-9302-642D88C02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33"/>
                </a:solidFill>
                <a:uFillTx/>
                <a:latin typeface="Garamond"/>
              </a:rPr>
              <a:t>DPDS FIELD OFFICES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Judicial Districts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13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Geographical Areas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15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Juvenile Matters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9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6633"/>
                </a:solidFill>
                <a:uFillTx/>
                <a:latin typeface="Garamond"/>
              </a:rPr>
              <a:t>OCPD SPECIALIZED UNITS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apital Defense and Trial Services Unit 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Juvenile Post-Conviction &amp; Reentry Unit 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Habeas Corpus Unit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Legal Services Unit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Psychiatric Defense Unit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B98D-DF19-4554-8046-FD5D3EBE67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5f5f5f"/>
                </a:solidFill>
                <a:uFillTx/>
                <a:latin typeface="Garamond"/>
              </a:rPr>
              <a:t>Rivera v. Rowland, et al</a:t>
            </a:r>
            <a:br>
              <a:rPr sz="5400"/>
            </a:br>
            <a:br>
              <a:rPr sz="4800"/>
            </a:b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Settlement 1999 required in part: </a:t>
            </a:r>
            <a:br>
              <a:rPr sz="4200"/>
            </a:b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Commission Caseload Standards</a:t>
            </a:r>
            <a:br>
              <a:rPr sz="4200"/>
            </a:b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Training</a:t>
            </a:r>
            <a:br>
              <a:rPr sz="4200"/>
            </a:b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IT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8767-95FD-4330-9700-82C228E75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load Goal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Judicial District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Geographical Area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450 – 500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Juvenile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300 - 400 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B22A-B0C7-4323-B41B-51D4638D9E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w Cases Assigned Per Attor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‘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05-06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‘06-07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% Incr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JD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8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44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p 16%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A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460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472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p 2%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F2DB-E195-4EAF-9ED4-487BB2AC0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61688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Training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- Public Defender &amp;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al Public Defen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New Attorney Training – 12 month rolling curriculu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thic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raignme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mmi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lient Counsel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llateral Consequences of Convic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ntence Computation and Calcul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bation and Paro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ntal Health 101- Competency/PSR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ial Skill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se of Experts and Expert testimon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eek Long Intensive Trial Schoo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Juvenile Training Track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On-line CT Case law upda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F9B5-A686-4017-8154-DD303B70F4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D Trai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asic Orientation 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ppell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Habeas Corp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Juvenile Delinquenc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C766-6BB0-4381-B023-49EC26D072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NEW INITIATIV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nocenc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NA “Unit”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nsic Training/Experienced Attorneys Advanced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other attorneys with cases where DNA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outside exper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urtroom Tria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osition and grant funding- expanding training and use of electron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case preparation and presentation. First concentrating on complicated serious felony and capital cases. Can be expanded for use in virtually any tri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bly streamlines t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can be scanned in ahead of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s can be examined by the juror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rams, statements, photographs - enlarged on screen for benefit of court and ju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ors appreciate clarity and streamlined visual case pres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outside expert expenses for trial preparation and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9A19-CF8F-42E8-AC21-89772E8015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4:07:53Z</dcterms:created>
  <dc:creator>DSullivan</dc:creator>
  <dc:description/>
  <dc:language>en-US</dc:language>
  <cp:lastModifiedBy>Sherry Avarista</cp:lastModifiedBy>
  <dcterms:modified xsi:type="dcterms:W3CDTF">2007-09-19T18:49:14Z</dcterms:modified>
  <cp:revision>41</cp:revision>
  <dc:subject/>
  <dc:title>DIVISION OF  PUBLIC DEFENDER SERVICES </dc:title>
</cp:coreProperties>
</file>