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A9B-1D90-4188-A791-0813A64E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C8D-39DE-41B7-8513-C4E86D04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733CF1-0359-46B5-8812-4D44CCD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B10362-E495-4135-8B55-D8F4DF1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A8180-C767-4A4E-B4F0-BB21C8F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781509-EA39-4F66-8055-F6600B1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A589C-3E8B-4600-B173-B00353A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12DEE-275B-4A40-AF62-4802A90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12953-BBD8-453D-8FE2-19CB73E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92858-DF2B-4E6B-BFA1-73AF0D99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C8BF7-CF7D-47F1-A1AC-43ECB2D6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30C8F-CFD7-4DFC-8E9D-128DF1B9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A91-1EDC-45C5-AC4A-3426886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DE464-1A5A-49A3-B99E-880A641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0CEEA-0889-4851-9F4D-E5DC326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EE34A-BC47-488E-B737-6FA272B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0D3F-DB10-4CAF-9C9E-6D9417F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849B4-9CB9-43A8-A0FB-DB86B8D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A5D49-09E0-43DB-8269-1E321E8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582E4-CCE1-4981-8282-615547B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DC509-ACAC-41F8-BB36-D3E9E24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816D6-F12E-4144-8A0B-519A6A9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9569E-EE79-4517-BB89-39391E6B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5BA-8DCC-47E0-A060-5EC573A1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EBB1-BD4F-4A09-8A35-7C0F77F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04EE-7C67-4E29-9851-691621BF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99D5-4265-42C0-BA5F-AE57A968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17A-D02E-4FE1-8EF0-9B79FEC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84FD-BA40-4911-9D3D-312E6A7A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C62-D901-4091-8A5F-1EE1265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B0C5-9046-47EB-9E0E-4995EF2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9D46-A01B-41ED-9969-E7205368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D5C-B49D-4232-88EF-08F8F82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17B6-DD57-4265-BDAD-F9E458B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4AF-CF69-4AB6-95CE-5D795F8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59E4-F0D0-40D7-B319-07DAA3B2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C4D-2697-4D85-A4CE-7BC9388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D09E-8AA8-4593-AB0A-7D1E22F7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69FC-6139-4E31-898F-4199F2E0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48DC-73E9-44FC-BD44-A740E029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0545-B641-4780-8EE1-140B575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DFA5-DF3C-4A7A-A5F7-BA7FFC5F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88DA-1760-4424-96C6-91C781D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14E-5481-48FF-8810-F201E0C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0C22-4E7E-46F2-9AA3-2BDFEFA4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E1A8-DCA6-450F-84EE-E46BACB9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57CD-6AFC-4C47-9ACB-5DFC2347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D384-5C20-4A33-94E6-48B9C33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0844-F69E-4164-9B8F-490925CF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E48C-F8E4-48B9-A2AB-73E458D4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0EE9-8214-4ABB-83A3-C3AB5881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A2F1-9FD6-41F8-803A-A1325912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B5F4-17F6-404E-A055-D57B46B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E778E-CD4B-468C-B3B0-379D5D3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38A-9E39-4397-B556-DE09B21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8071-F0D9-45E9-A3CE-EE6F9452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8B7A-A897-4554-A316-5D8D8A6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CC36-0F3F-483F-93B4-ED9A6B12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83C8-4391-4057-9DF8-99B6597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5CB2C-41E3-4D9D-AC3E-ABB86A2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D315-5A6A-4DBA-81A1-5C1CC2F1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7717-DAFC-4036-99AD-00B993D8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5C1E-A861-4BA1-834E-5B64A8CF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0D74-046C-4704-9CDE-7299A850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22E8-301A-4D74-B314-9C604F6A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F6E-FBBA-41B7-AA43-A5930A51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B052-6F4B-4706-B9E4-2A1B3F3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2B1D-CEBA-4C58-A622-C2A2F4B8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793E-B868-4263-B9CB-BAD348A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E6A07-2D90-4E69-9F0B-E7D444E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B5DC-6361-4035-A636-324CCAA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A0E5-7543-4845-B77D-D49B42A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AD5E-34D8-474A-A314-4219B6E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AED50-B152-490F-A973-D024039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7FDD-74B1-4864-856D-0C78708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43EF9-3E41-49B7-B546-6E9152DD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E20-9FE3-4EC5-B119-A02246D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CBBA-5352-498F-A925-79C3F170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C1C7-4AB5-4B55-9D63-1CA15F48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9240-B5C2-488A-9629-D1512D7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5273-4D2C-4173-B02C-17466835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D30A-6C20-443D-ADC3-476E899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C0DF-32EC-438A-B3BF-CC24BB3E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2208-93B1-4B97-80C9-F7A2299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889D-92D1-4E96-A309-C6D3429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9321-1715-450A-9D93-89EEC39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6363-2644-4E89-9280-8B5EFE5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292-5762-4FE9-902C-483E5AC9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C0DFC-9683-4B0D-9B3A-3F5DC6A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64B55-5FD6-4EAC-9A88-88635239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CFDFD-F584-4442-B96D-953930B7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1630-240E-48BA-A98C-6E920681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E841-D2C8-4464-8AB1-899C25CD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08DAD-D59D-4259-B5E7-FFA4F43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D968-DBF1-4B76-A209-4717A6F8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BD410-D248-4B34-975A-E087737F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A6C7-8A46-42E0-BCAF-4AFAEF04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2EB67-FA65-41B3-BDEB-52FE65D8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5D9-86EE-4579-A5C3-484BF05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FE6BB-FFB5-430D-8766-2FB2CE9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F13E3-E858-42A3-91AB-57B3495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F2B4-C08B-4182-B2FD-F527448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5766-D588-4F3E-8E2C-992340EC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9BC2-232F-40EB-A898-44E206D4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92BE4-B8EE-407B-B946-A5C7E2AB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4257-C259-4162-A063-3E1CC06B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8A82-347D-4F93-995B-89DB7A34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E75D-6DB8-4A2A-B36D-12DB0B7D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DF5A-E97E-4A7F-AE9B-A4E9A7A4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BB8-F815-4A8F-8F93-67F3D01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14E6-0526-4E1D-B7C0-2DFC6506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B1595-8F7C-4118-B447-15CD987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8183-26BF-42B1-BDD0-BA4B7889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0ED3-95B5-43DD-B8EA-A7DDC42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F5DFC-4EDF-4C22-BBF6-156A8011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DFC4-03E4-4BD1-8F14-0CDFF437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109B-F29E-469E-A41B-0DBC72A7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8C9655-3A42-46D1-B15F-EA446209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70DC3-DEC1-4489-AF32-ED29B62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AB762-644C-4CBE-8F03-6C0F5C2E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609-5AF5-4168-87E4-BE0CAD57A0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073-3A91-4677-B909-5B12BB578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54C-524E-452E-8A0D-CE28FE176F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96B-B423-4BBA-A520-1D10D8A4A0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5721-3A31-420F-972B-CAA2BA2E86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3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64C2-F3F6-43C5-BA7E-D056056EC0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8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C2AA-2773-47F7-8D51-99602CE184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2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3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2688-C7B7-4353-B207-B06F85BA44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7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868-F679-4CA1-97D4-5FE93686CD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FF70-45AA-4216-AE4A-68DAF2D49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OF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BLIC DEFENDER SERVIC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O. Storey,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an S. Carlow, Deputy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 14,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ED6-5A44-4344-A911-A0A01C3C6E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Social Worker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 Public Defender system = national indigent defense model with social workers in every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ocial Workers are masters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to develop alternatives to incarceration –pretrial and post trial -reduce prison overcrow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ings to the state through alternativ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s with CSSD re: Prison Overcrowding pre-sentence and postconvi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DMHAS re: Jail Di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D4D9-23FD-4406-9CB0-5FB5D85EE2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uvenile Post Conviction and Reent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few national juvenile defense reentry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hildren committed to DCF as delinquent are tracked and represented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Intervention, Permanency Planning, Family re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90D0-1BCA-4E46-A100-86FB921FB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law Impact on A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 v. Casia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82 Conn. 614 (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s to Correct Illegal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must be appointed to represent defen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files a limite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laims required to be reviewed &amp; determination whether sound basis exists to pro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sel reports to court whether a legitimate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gitimate – Counsel files full appearance &amp; purs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through appellat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nd basis – Counsel reports to court, full appearance not filed &amp; defendant notified can continue pro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CFDBA-0403-43B2-A940-D6AC08C97C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xpected Impac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work load on trial, appellate &amp; habeas atto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sian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eas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. 7% increase from 05-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Felony Cases – as of 9/5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 Capital Felony cases pen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3 –prosecution seeking dea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9999cc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4 – represented by DP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0B653-E3C1-4B27-A267-16AD11E81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omestic Violence Doc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 Intens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Attorneys and Social Wor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ed attorneys to New Haven, Hartford and Waterbury offices for DV doc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on 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.A. 07-123, An Act Concerning Domestic Violenc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F847-BADA-4FA7-B7DB-E6651DC20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ized Doc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mestic Viol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rug Cou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un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using Cou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tor Veh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SR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uthful Off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DC637-5877-4CE6-B343-8CE57118C0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teral Consequences of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 Minimum Sent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Of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.A. 07-143 - An Act Concerning Jessica’s Law and Consensual Sexual Activity Between Adolescents Close in 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datory minimums/enhancement of penalties/tender years ex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on requirements/residency restrictions/elimination of statute of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2179B-1B01-4921-8FB0-A75A96542B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teral Consequences of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 the Age Juvenile Juris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56DD34-4B04-47EE-9DCA-F6E51B51E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llateral Consequences of Legis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Transcrip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June Special Session 07-04 - An Act Implementing the Provisions of the Budget Concerning General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of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ests from in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D19A0C-B649-4C21-A86A-6A003EF897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ther Factors Which Impact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Goo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th in Sentencing – 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rikes –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4421-B3B8-4C02-A10D-2758794460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ffice of Chief Public Defender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Administrative Servi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Financial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Human Resour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Information Service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Delinquency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Legal Counsel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Data Processing and Technical Suppor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Training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pecial Public Defenders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hief Social Worker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hief Investigator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2F36-C624-4BC5-B63F-CAE15742B8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OF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BLIC DEFENDER SERVIC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304560" y="42670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O. Storey,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an S. Carlow, Deputy Chief Public Def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 14,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53E-C415-49BE-925E-18D6028961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33"/>
                </a:solidFill>
                <a:uFillTx/>
                <a:latin typeface="Garamond"/>
              </a:rPr>
              <a:t>DPDS FIELD OFFICES</a:t>
            </a: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dicial District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13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Geographical Areas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15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Matter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9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OCPD SPECIALIZED UNITS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apital Defense and Trial Services Unit 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Juvenile Post-Conviction &amp; Reentry Unit 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Habeas Corpus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Legal Services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Psychiatric Defense Unit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CF66-B13F-427F-AF65-3D72F64D66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5f5f5f"/>
                </a:solidFill>
                <a:uFillTx/>
                <a:latin typeface="Garamond"/>
              </a:rPr>
              <a:t>Rivera v. Rowland, et al</a:t>
            </a:r>
            <a:br>
              <a:rPr sz="5400"/>
            </a:br>
            <a:br>
              <a:rPr sz="48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Settlement 1999 required in part: 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Commission Caseload Standards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Training</a:t>
            </a:r>
            <a:br>
              <a:rPr sz="4200"/>
            </a:b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IT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50BE-DA36-4D91-91D9-6ED2432B4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load Goal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Judicial District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Geographical Area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450 – 500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Juvenile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300 - 400 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76833-B565-411A-8261-6E35595790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w Cases Assigned Per Attor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‘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05-06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‘06-07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% Incre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D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8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4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p 16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A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60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72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p 2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8400-8682-4DE8-9A83-B5A0A2CF6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61688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raining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- Public Defender &amp;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Public Defen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New Attorney Training – 12 month rolling curriculu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rraignme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mmi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lient Counsel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llateral Consequences of Convi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ntence Computation and Calcul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bation and Paro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ntal Health 101- Competency/PSR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ial Skill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 of Experts and Expert testimon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eek Long Intensive Trial Schoo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Juvenile Training Track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On-line CT Case law upda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ADA3E-304A-4DB3-AB11-6F14D40326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D Trai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Basic Orientation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ppell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abeas Corp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Juvenile Delinquenc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969D-C5A8-4CF7-96C0-E45E23D52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NEW INITIATIV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nocenc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NA “Unit”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nsic Training/Experienced Attorneys Advanced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other attorneys with cases where DNA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outside exper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urtroom Tria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osition and grant funding- expanding training and use of electron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case preparation and presentation. First concentrating on complicated serious felony and capital cases. Can be expanded for use in virtually any tri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y streamlines t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can be scanned in ahead of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s can be examined by the juror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s, statements, photographs - enlarged on screen for benefit of court and ju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ors appreciate clarity and streamlined visual case pres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outside expert expenses for trial preparation and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F680-99D6-4BB2-87C0-E7D04AB8C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4:07:53Z</dcterms:created>
  <dc:creator>DSullivan</dc:creator>
  <dc:description/>
  <dc:language>en-US</dc:language>
  <cp:lastModifiedBy>Sherry Avarista</cp:lastModifiedBy>
  <dcterms:modified xsi:type="dcterms:W3CDTF">2007-09-19T18:49:14Z</dcterms:modified>
  <cp:revision>41</cp:revision>
  <dc:subject/>
  <dc:title>DIVISION OF  PUBLIC DEFENDER SERVICES </dc:title>
</cp:coreProperties>
</file>