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0058400" cy="73152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942D6-33BE-43C1-A77E-50D8F46C78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291600"/>
            <a:ext cx="905220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18457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711440"/>
            <a:ext cx="905220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2920" y="3927240"/>
            <a:ext cx="905220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2FF0C-324F-4372-A500-1472EAFB02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2920" y="291600"/>
            <a:ext cx="905220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18457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2920" y="1711440"/>
            <a:ext cx="441720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41520" y="1711440"/>
            <a:ext cx="441720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02920" y="3927240"/>
            <a:ext cx="441720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41520" y="3927240"/>
            <a:ext cx="441720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8570F-5CC4-4A3B-AEFE-20B18533DA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2920" y="291600"/>
            <a:ext cx="905220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18457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2920" y="1711440"/>
            <a:ext cx="2914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63640" y="1711440"/>
            <a:ext cx="2914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24360" y="1711440"/>
            <a:ext cx="2914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2920" y="3927240"/>
            <a:ext cx="2914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63640" y="3927240"/>
            <a:ext cx="2914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24360" y="3927240"/>
            <a:ext cx="2914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FAE0C-1DA5-468F-943B-3F494B4487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2920" y="291600"/>
            <a:ext cx="905220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18457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02920" y="1711440"/>
            <a:ext cx="905220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C0A91-3397-4575-8B49-F06BFFC6A3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2920" y="291600"/>
            <a:ext cx="905220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18457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02920" y="1711440"/>
            <a:ext cx="905220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FCD86-3A05-492D-B312-F2BB860ADD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291600"/>
            <a:ext cx="905220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18457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2920" y="1711440"/>
            <a:ext cx="441720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41520" y="1711440"/>
            <a:ext cx="441720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42AC9-28AD-46A1-879A-D1DC14DA79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2920" y="291600"/>
            <a:ext cx="905220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184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4D973-4FE7-4EF3-964A-B593CB6CA4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02920" y="291600"/>
            <a:ext cx="905220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C84ED-EB6A-479F-882C-DF551EA3EC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2920" y="291600"/>
            <a:ext cx="905220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18457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2920" y="1711440"/>
            <a:ext cx="441720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41520" y="1711440"/>
            <a:ext cx="441720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02920" y="3927240"/>
            <a:ext cx="441720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7BDA1-5DE5-42EF-9B3D-C43293020B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2920" y="291600"/>
            <a:ext cx="905220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18457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2920" y="1711440"/>
            <a:ext cx="441720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41520" y="1711440"/>
            <a:ext cx="441720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41520" y="3927240"/>
            <a:ext cx="441720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89BB5-5B9B-4C2F-B96E-4D14191860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2920" y="291600"/>
            <a:ext cx="905220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18457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2920" y="1711440"/>
            <a:ext cx="441720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41520" y="1711440"/>
            <a:ext cx="441720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2920" y="3927240"/>
            <a:ext cx="905220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58D5C-2630-45C9-A984-A318A8C58C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10058400" y="7314840"/>
            <a:ext cx="1425600" cy="507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7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DE44C-4FCD-423D-8579-4418DC46BD18}" type="slidenum"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1"/>
          <p:cNvSpPr/>
          <p:nvPr/>
        </p:nvSpPr>
        <p:spPr>
          <a:xfrm>
            <a:off x="0" y="0"/>
            <a:ext cx="10058400" cy="1454040"/>
          </a:xfrm>
          <a:prstGeom prst="rect">
            <a:avLst/>
          </a:prstGeom>
          <a:solidFill>
            <a:srgbClr val="1f37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2"/>
          <p:cNvSpPr/>
          <p:nvPr/>
        </p:nvSpPr>
        <p:spPr>
          <a:xfrm>
            <a:off x="0" y="1649520"/>
            <a:ext cx="10058400" cy="60120"/>
          </a:xfrm>
          <a:prstGeom prst="rect">
            <a:avLst/>
          </a:prstGeom>
          <a:solidFill>
            <a:srgbClr val="ffd2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3" descr=""/>
          <p:cNvPicPr/>
          <p:nvPr/>
        </p:nvPicPr>
        <p:blipFill>
          <a:blip r:embed="rId2"/>
          <a:stretch/>
        </p:blipFill>
        <p:spPr>
          <a:xfrm>
            <a:off x="0" y="-34920"/>
            <a:ext cx="10210680" cy="170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John.Forbes@ct.gov" TargetMode="External"/><Relationship Id="rId2" Type="http://schemas.openxmlformats.org/officeDocument/2006/relationships/hyperlink" Target="mailto:Ivan.Kuzyk@ct.gov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2"/>
          <p:cNvSpPr/>
          <p:nvPr/>
        </p:nvSpPr>
        <p:spPr>
          <a:xfrm>
            <a:off x="441360" y="1943280"/>
            <a:ext cx="9151920" cy="49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 algn="ctr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800" spc="-1" strike="noStrike">
                <a:solidFill>
                  <a:srgbClr val="1f3776"/>
                </a:solidFill>
                <a:latin typeface="Arial"/>
              </a:rPr>
              <a:t>Study of Parolees Released in 2005</a:t>
            </a:r>
            <a:br>
              <a:rPr sz="2800"/>
            </a:br>
            <a:br>
              <a:rPr sz="900"/>
            </a:br>
            <a:r>
              <a:rPr b="0" lang="en-US" sz="2200" spc="-1" strike="noStrike">
                <a:solidFill>
                  <a:srgbClr val="1f3776"/>
                </a:solidFill>
                <a:latin typeface="Arial"/>
              </a:rPr>
              <a:t>OPM/CJPPD - Research Uni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esented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ril 8, 201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JPAC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4" descr="CREST"/>
          <p:cNvPicPr/>
          <p:nvPr/>
        </p:nvPicPr>
        <p:blipFill>
          <a:blip r:embed="rId1"/>
          <a:stretch/>
        </p:blipFill>
        <p:spPr>
          <a:xfrm>
            <a:off x="3981600" y="3100320"/>
            <a:ext cx="209376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34"/>
          <p:cNvSpPr/>
          <p:nvPr/>
        </p:nvSpPr>
        <p:spPr>
          <a:xfrm>
            <a:off x="604440" y="527040"/>
            <a:ext cx="6523920" cy="5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t">
            <a:spAutoFit/>
          </a:bodyPr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3000" spc="-1" strike="noStrike">
                <a:solidFill>
                  <a:srgbClr val="1f3776"/>
                </a:solidFill>
                <a:latin typeface="Arial"/>
              </a:rPr>
              <a:t>System analysis, Tech violators (1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5"/>
          <p:cNvSpPr/>
          <p:nvPr/>
        </p:nvSpPr>
        <p:spPr>
          <a:xfrm>
            <a:off x="0" y="1076400"/>
            <a:ext cx="10058400" cy="61920"/>
          </a:xfrm>
          <a:prstGeom prst="rect">
            <a:avLst/>
          </a:prstGeom>
          <a:solidFill>
            <a:srgbClr val="ffd2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2005 parolees 2jpg.JPG"/>
          <p:cNvPicPr/>
          <p:nvPr/>
        </p:nvPicPr>
        <p:blipFill>
          <a:blip r:embed="rId1"/>
          <a:stretch/>
        </p:blipFill>
        <p:spPr>
          <a:xfrm>
            <a:off x="457200" y="1143000"/>
            <a:ext cx="905976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34"/>
          <p:cNvSpPr/>
          <p:nvPr/>
        </p:nvSpPr>
        <p:spPr>
          <a:xfrm>
            <a:off x="711360" y="527040"/>
            <a:ext cx="6523920" cy="5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t">
            <a:spAutoFit/>
          </a:bodyPr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3000" spc="-1" strike="noStrike">
                <a:solidFill>
                  <a:srgbClr val="1f3776"/>
                </a:solidFill>
                <a:latin typeface="Arial"/>
              </a:rPr>
              <a:t>System analysis, Tech violators (2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5"/>
          <p:cNvSpPr/>
          <p:nvPr/>
        </p:nvSpPr>
        <p:spPr>
          <a:xfrm>
            <a:off x="0" y="1076400"/>
            <a:ext cx="10058400" cy="61920"/>
          </a:xfrm>
          <a:prstGeom prst="rect">
            <a:avLst/>
          </a:prstGeom>
          <a:solidFill>
            <a:srgbClr val="ffd2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2005 parolees 3jpg.JPG"/>
          <p:cNvPicPr/>
          <p:nvPr/>
        </p:nvPicPr>
        <p:blipFill>
          <a:blip r:embed="rId1"/>
          <a:stretch/>
        </p:blipFill>
        <p:spPr>
          <a:xfrm>
            <a:off x="457200" y="1143000"/>
            <a:ext cx="905976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1"/>
          <p:cNvSpPr/>
          <p:nvPr/>
        </p:nvSpPr>
        <p:spPr>
          <a:xfrm>
            <a:off x="10058400" y="7315200"/>
            <a:ext cx="14256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fld id="{B7BD527B-C92C-4875-A8F8-73ABCCA50EAB}" type="slidenum"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170000" y="2568600"/>
            <a:ext cx="8055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3960" indent="-453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idivism rates by pathwa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3960" indent="-453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x offenders’ pathway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3960" indent="-453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H offenders’ pathway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3960" indent="-453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tcomes by parole office/offic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3960" indent="-453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halfway house eff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3960" indent="-453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sk profile: pathways and outcom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3960" indent="-453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550800" y="1963800"/>
            <a:ext cx="734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Some questions we intend to addr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1"/>
          <p:cNvSpPr/>
          <p:nvPr/>
        </p:nvSpPr>
        <p:spPr>
          <a:xfrm>
            <a:off x="10058400" y="7315200"/>
            <a:ext cx="14256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fld id="{B21B5AD8-866D-44E4-9C7B-BA5A738CF236}" type="slidenum"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2615040" y="2819520"/>
            <a:ext cx="4826520" cy="22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t">
            <a:spAutoFit/>
          </a:bodyPr>
          <a:p>
            <a:pPr algn="ctr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ohn Forb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ssistant Division Direc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000" spc="-1" strike="noStrike" u="sng">
                <a:solidFill>
                  <a:srgbClr val="184572"/>
                </a:solidFill>
                <a:uFillTx/>
                <a:latin typeface="Arial"/>
                <a:hlinkClick r:id="rId1"/>
              </a:rPr>
              <a:t>John.Forbes@ct.gov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van Kuzy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Directo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T Statistical Analysis Center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000" spc="-1" strike="noStrike" u="sng">
                <a:solidFill>
                  <a:srgbClr val="184572"/>
                </a:solidFill>
                <a:uFillTx/>
                <a:latin typeface="Arial"/>
                <a:hlinkClick r:id="rId2"/>
              </a:rPr>
              <a:t>Ivan.Kuzyk@ct.gov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529920" y="6296040"/>
            <a:ext cx="89985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3400" spc="-1" strike="noStrike">
                <a:solidFill>
                  <a:srgbClr val="003399"/>
                </a:solidFill>
                <a:latin typeface="Arial"/>
              </a:rPr>
              <a:t>www.ct.gov/opm/CriminalJustice/Research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Slide Number Placeholder 1"/>
          <p:cNvSpPr/>
          <p:nvPr/>
        </p:nvSpPr>
        <p:spPr>
          <a:xfrm>
            <a:off x="10058400" y="7315200"/>
            <a:ext cx="14256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fld id="{F74FE0B3-FD02-4B15-A9CD-522BB0AA118A}" type="slidenum"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1170000" y="2568600"/>
            <a:ext cx="8055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3960" indent="-453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ing the 2010 Prisoner Recidivism Study as a departure point, CJPPD has begun an analysis of Recidivism among specific offender groups.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3960" indent="-453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,522 offenders were released to parole during 2005.  Using the same datasets we used for the offender study, now we can track parolees, exclusively.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3960" indent="-453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7"/>
          <p:cNvSpPr/>
          <p:nvPr/>
        </p:nvSpPr>
        <p:spPr>
          <a:xfrm>
            <a:off x="550800" y="1963800"/>
            <a:ext cx="734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The 2005 Parolee Stud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34"/>
          <p:cNvSpPr/>
          <p:nvPr/>
        </p:nvSpPr>
        <p:spPr>
          <a:xfrm>
            <a:off x="599400" y="527040"/>
            <a:ext cx="2909160" cy="5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t">
            <a:spAutoFit/>
          </a:bodyPr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3000" spc="-1" strike="noStrike">
                <a:solidFill>
                  <a:srgbClr val="1f3776"/>
                </a:solidFill>
                <a:latin typeface="Arial"/>
              </a:rPr>
              <a:t>Why parolees?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5"/>
          <p:cNvSpPr/>
          <p:nvPr/>
        </p:nvSpPr>
        <p:spPr>
          <a:xfrm>
            <a:off x="0" y="1076400"/>
            <a:ext cx="10058400" cy="61920"/>
          </a:xfrm>
          <a:prstGeom prst="rect">
            <a:avLst/>
          </a:prstGeom>
          <a:solidFill>
            <a:srgbClr val="ffd2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1104840" y="1341360"/>
            <a:ext cx="8055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3960" indent="-453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do not have a good, macro-level  understanding of how parolees perform while they are on supervised parole.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3960" indent="-453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2010 Recidivism Report tracked offenders from the date of their first 2005 release.  As a result we only captured 1,899 offenders who were released to parole and another 746 who EOS’d from parole.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3960" indent="-453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study will allow us to track 2,500 parolees from the date of their 2005 releas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3960" indent="-453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4"/>
          <p:cNvSpPr/>
          <p:nvPr/>
        </p:nvSpPr>
        <p:spPr>
          <a:xfrm>
            <a:off x="610920" y="527040"/>
            <a:ext cx="4791240" cy="5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t">
            <a:spAutoFit/>
          </a:bodyPr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3000" spc="-1" strike="noStrike">
                <a:solidFill>
                  <a:srgbClr val="1f3776"/>
                </a:solidFill>
                <a:latin typeface="Arial"/>
              </a:rPr>
              <a:t>The parolees in the study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5"/>
          <p:cNvSpPr/>
          <p:nvPr/>
        </p:nvSpPr>
        <p:spPr>
          <a:xfrm>
            <a:off x="0" y="1076400"/>
            <a:ext cx="10058400" cy="61920"/>
          </a:xfrm>
          <a:prstGeom prst="rect">
            <a:avLst/>
          </a:prstGeom>
          <a:solidFill>
            <a:srgbClr val="ffd2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1104840" y="1341360"/>
            <a:ext cx="805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3960" indent="-453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3960" indent="-453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1104840" y="1341360"/>
            <a:ext cx="8055000" cy="53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3960" indent="-453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453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re they came from (facility or halfway hous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453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re they went (parole office, officer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453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ir movements over the next three yea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453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ir criminal histories following release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3960" indent="-453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study should allow us to gain some new insights into the proces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3960" indent="-453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e limitation – These releases occurred pre-Cheshire.  Further study will be required to determine if subsequent structural changes have had a positive impact.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34"/>
          <p:cNvSpPr/>
          <p:nvPr/>
        </p:nvSpPr>
        <p:spPr>
          <a:xfrm>
            <a:off x="603000" y="527040"/>
            <a:ext cx="3732120" cy="5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t">
            <a:spAutoFit/>
          </a:bodyPr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3000" spc="-1" strike="noStrike">
                <a:solidFill>
                  <a:srgbClr val="1f3776"/>
                </a:solidFill>
                <a:latin typeface="Arial"/>
              </a:rPr>
              <a:t>System analysis (1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5"/>
          <p:cNvSpPr/>
          <p:nvPr/>
        </p:nvSpPr>
        <p:spPr>
          <a:xfrm>
            <a:off x="0" y="1076400"/>
            <a:ext cx="10058400" cy="61920"/>
          </a:xfrm>
          <a:prstGeom prst="rect">
            <a:avLst/>
          </a:prstGeom>
          <a:solidFill>
            <a:srgbClr val="ffd2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8"/>
          <p:cNvSpPr/>
          <p:nvPr/>
        </p:nvSpPr>
        <p:spPr>
          <a:xfrm>
            <a:off x="1031760" y="5668920"/>
            <a:ext cx="8374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2005 parolees 1jpg.JPG"/>
          <p:cNvPicPr/>
          <p:nvPr/>
        </p:nvPicPr>
        <p:blipFill>
          <a:blip r:embed="rId1"/>
          <a:srcRect l="0" t="0" r="0" b="21280"/>
          <a:stretch/>
        </p:blipFill>
        <p:spPr>
          <a:xfrm>
            <a:off x="457200" y="1141560"/>
            <a:ext cx="9059760" cy="4606920"/>
          </a:xfrm>
          <a:prstGeom prst="rect">
            <a:avLst/>
          </a:prstGeom>
          <a:ln w="0">
            <a:noFill/>
          </a:ln>
        </p:spPr>
      </p:pic>
      <p:sp>
        <p:nvSpPr>
          <p:cNvPr id="56" name="TextBox 5"/>
          <p:cNvSpPr/>
          <p:nvPr/>
        </p:nvSpPr>
        <p:spPr>
          <a:xfrm>
            <a:off x="1411200" y="5850000"/>
            <a:ext cx="760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graphic represents the  6 major pathways taken by offenders who were released to parole during 2005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4"/>
          <p:cNvSpPr/>
          <p:nvPr/>
        </p:nvSpPr>
        <p:spPr>
          <a:xfrm>
            <a:off x="603000" y="527040"/>
            <a:ext cx="3732120" cy="5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t">
            <a:spAutoFit/>
          </a:bodyPr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3000" spc="-1" strike="noStrike">
                <a:solidFill>
                  <a:srgbClr val="1f3776"/>
                </a:solidFill>
                <a:latin typeface="Arial"/>
              </a:rPr>
              <a:t>System analysis (2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5"/>
          <p:cNvSpPr/>
          <p:nvPr/>
        </p:nvSpPr>
        <p:spPr>
          <a:xfrm>
            <a:off x="0" y="1076400"/>
            <a:ext cx="10058400" cy="61920"/>
          </a:xfrm>
          <a:prstGeom prst="rect">
            <a:avLst/>
          </a:prstGeom>
          <a:solidFill>
            <a:srgbClr val="ffd2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8"/>
          <p:cNvSpPr/>
          <p:nvPr/>
        </p:nvSpPr>
        <p:spPr>
          <a:xfrm>
            <a:off x="1031760" y="5668920"/>
            <a:ext cx="8374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2005 parolees 1jpg.JPG"/>
          <p:cNvPicPr/>
          <p:nvPr/>
        </p:nvPicPr>
        <p:blipFill>
          <a:blip r:embed="rId1"/>
          <a:srcRect l="0" t="0" r="0" b="21280"/>
          <a:stretch/>
        </p:blipFill>
        <p:spPr>
          <a:xfrm>
            <a:off x="457200" y="1141560"/>
            <a:ext cx="9059760" cy="4606920"/>
          </a:xfrm>
          <a:prstGeom prst="rect">
            <a:avLst/>
          </a:prstGeom>
          <a:ln w="0">
            <a:noFill/>
          </a:ln>
        </p:spPr>
      </p:pic>
      <p:sp>
        <p:nvSpPr>
          <p:cNvPr id="61" name="TextBox 5"/>
          <p:cNvSpPr/>
          <p:nvPr/>
        </p:nvSpPr>
        <p:spPr>
          <a:xfrm>
            <a:off x="1411200" y="5850000"/>
            <a:ext cx="696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,370 parolees (54%) EOS  from parole with no apparent problem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6"/>
          <p:cNvSpPr/>
          <p:nvPr/>
        </p:nvSpPr>
        <p:spPr>
          <a:xfrm>
            <a:off x="5996160" y="1566720"/>
            <a:ext cx="3395520" cy="3841920"/>
          </a:xfrm>
          <a:prstGeom prst="ellipse">
            <a:avLst/>
          </a:prstGeom>
          <a:solidFill>
            <a:srgbClr val="ff9900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4"/>
          <p:cNvSpPr/>
          <p:nvPr/>
        </p:nvSpPr>
        <p:spPr>
          <a:xfrm>
            <a:off x="603000" y="527040"/>
            <a:ext cx="3732120" cy="5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t">
            <a:spAutoFit/>
          </a:bodyPr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3000" spc="-1" strike="noStrike">
                <a:solidFill>
                  <a:srgbClr val="1f3776"/>
                </a:solidFill>
                <a:latin typeface="Arial"/>
              </a:rPr>
              <a:t>System analysis (2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5"/>
          <p:cNvSpPr/>
          <p:nvPr/>
        </p:nvSpPr>
        <p:spPr>
          <a:xfrm>
            <a:off x="0" y="1076400"/>
            <a:ext cx="10058400" cy="61920"/>
          </a:xfrm>
          <a:prstGeom prst="rect">
            <a:avLst/>
          </a:prstGeom>
          <a:solidFill>
            <a:srgbClr val="ffd2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8"/>
          <p:cNvSpPr/>
          <p:nvPr/>
        </p:nvSpPr>
        <p:spPr>
          <a:xfrm>
            <a:off x="1031760" y="5668920"/>
            <a:ext cx="8374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2005 parolees 1jpg.JPG"/>
          <p:cNvPicPr/>
          <p:nvPr/>
        </p:nvPicPr>
        <p:blipFill>
          <a:blip r:embed="rId1"/>
          <a:srcRect l="0" t="0" r="0" b="21280"/>
          <a:stretch/>
        </p:blipFill>
        <p:spPr>
          <a:xfrm>
            <a:off x="457200" y="1141560"/>
            <a:ext cx="9059760" cy="4606920"/>
          </a:xfrm>
          <a:prstGeom prst="rect">
            <a:avLst/>
          </a:prstGeom>
          <a:ln w="0">
            <a:noFill/>
          </a:ln>
        </p:spPr>
      </p:pic>
      <p:sp>
        <p:nvSpPr>
          <p:cNvPr id="67" name="TextBox 5"/>
          <p:cNvSpPr/>
          <p:nvPr/>
        </p:nvSpPr>
        <p:spPr>
          <a:xfrm>
            <a:off x="1411200" y="5850000"/>
            <a:ext cx="760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pproximately 465 (18%) appear to return with new charges or a new prison sentenc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6"/>
          <p:cNvSpPr/>
          <p:nvPr/>
        </p:nvSpPr>
        <p:spPr>
          <a:xfrm>
            <a:off x="939960" y="3043080"/>
            <a:ext cx="2560320" cy="2730600"/>
          </a:xfrm>
          <a:prstGeom prst="ellipse">
            <a:avLst/>
          </a:prstGeom>
          <a:solidFill>
            <a:srgbClr val="ff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34"/>
          <p:cNvSpPr/>
          <p:nvPr/>
        </p:nvSpPr>
        <p:spPr>
          <a:xfrm>
            <a:off x="603000" y="527040"/>
            <a:ext cx="3732120" cy="5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t">
            <a:spAutoFit/>
          </a:bodyPr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3000" spc="-1" strike="noStrike">
                <a:solidFill>
                  <a:srgbClr val="1f3776"/>
                </a:solidFill>
                <a:latin typeface="Arial"/>
              </a:rPr>
              <a:t>System analysis (3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5"/>
          <p:cNvSpPr/>
          <p:nvPr/>
        </p:nvSpPr>
        <p:spPr>
          <a:xfrm>
            <a:off x="0" y="1076400"/>
            <a:ext cx="10058400" cy="61920"/>
          </a:xfrm>
          <a:prstGeom prst="rect">
            <a:avLst/>
          </a:prstGeom>
          <a:solidFill>
            <a:srgbClr val="ffd2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8"/>
          <p:cNvSpPr/>
          <p:nvPr/>
        </p:nvSpPr>
        <p:spPr>
          <a:xfrm>
            <a:off x="1031760" y="5668920"/>
            <a:ext cx="8374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2005 parolees 1jpg.JPG"/>
          <p:cNvPicPr/>
          <p:nvPr/>
        </p:nvPicPr>
        <p:blipFill>
          <a:blip r:embed="rId1"/>
          <a:srcRect l="0" t="0" r="0" b="21280"/>
          <a:stretch/>
        </p:blipFill>
        <p:spPr>
          <a:xfrm>
            <a:off x="457200" y="1141560"/>
            <a:ext cx="9059760" cy="4606920"/>
          </a:xfrm>
          <a:prstGeom prst="rect">
            <a:avLst/>
          </a:prstGeom>
          <a:ln w="0">
            <a:noFill/>
          </a:ln>
        </p:spPr>
      </p:pic>
      <p:sp>
        <p:nvSpPr>
          <p:cNvPr id="73" name="TextBox 5"/>
          <p:cNvSpPr/>
          <p:nvPr/>
        </p:nvSpPr>
        <p:spPr>
          <a:xfrm>
            <a:off x="1450800" y="5499000"/>
            <a:ext cx="7607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cluding parolees who EOS or return with new sentences or charges, were are left with 488 who returned to prison for Technical Violations and 152 absconders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7"/>
          <p:cNvSpPr/>
          <p:nvPr/>
        </p:nvSpPr>
        <p:spPr>
          <a:xfrm>
            <a:off x="3265560" y="2128680"/>
            <a:ext cx="2887560" cy="3410280"/>
          </a:xfrm>
          <a:prstGeom prst="ellipse">
            <a:avLst/>
          </a:prstGeom>
          <a:solidFill>
            <a:srgbClr val="00b05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34"/>
          <p:cNvSpPr/>
          <p:nvPr/>
        </p:nvSpPr>
        <p:spPr>
          <a:xfrm>
            <a:off x="610920" y="527040"/>
            <a:ext cx="5511960" cy="5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t">
            <a:spAutoFit/>
          </a:bodyPr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3000" spc="-1" strike="noStrike">
                <a:solidFill>
                  <a:srgbClr val="1f3776"/>
                </a:solidFill>
                <a:latin typeface="Arial"/>
              </a:rPr>
              <a:t>System analysis, absconder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5"/>
          <p:cNvSpPr/>
          <p:nvPr/>
        </p:nvSpPr>
        <p:spPr>
          <a:xfrm>
            <a:off x="0" y="1076400"/>
            <a:ext cx="10058400" cy="61920"/>
          </a:xfrm>
          <a:prstGeom prst="rect">
            <a:avLst/>
          </a:prstGeom>
          <a:solidFill>
            <a:srgbClr val="ffd2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2005 parolees 4jpg.JPG"/>
          <p:cNvPicPr/>
          <p:nvPr/>
        </p:nvPicPr>
        <p:blipFill>
          <a:blip r:embed="rId1"/>
          <a:srcRect l="0" t="6137" r="0" b="10157"/>
          <a:stretch/>
        </p:blipFill>
        <p:spPr>
          <a:xfrm>
            <a:off x="457200" y="1501920"/>
            <a:ext cx="9059760" cy="48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8:11:27Z</dcterms:created>
  <dc:creator>John Forbes</dc:creator>
  <dc:description/>
  <dc:language>en-US</dc:language>
  <cp:lastModifiedBy>Sherry Avarista</cp:lastModifiedBy>
  <dcterms:modified xsi:type="dcterms:W3CDTF">2010-04-21T20:02:42Z</dcterms:modified>
  <cp:revision>268</cp:revision>
  <dc:subject/>
  <dc:title>Slide 1</dc:title>
</cp:coreProperties>
</file>