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584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92DA-3098-4E10-9B68-EDE369558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9052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3927240"/>
            <a:ext cx="9052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1059-DD61-4958-90D3-FD082E7B7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39272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39272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962F-2810-4452-B097-CD0B19CFB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7114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7114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39272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39272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39272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38C8-E51B-487D-9702-11B043BD0B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711440"/>
            <a:ext cx="9052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572A-FBFB-434A-95B8-582E5C6AD8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9052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6575-21E3-4BA8-A2ED-25150D207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7008-BAA7-4A63-8374-6E788893F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BF79-CA07-4E66-BBDA-5EF39EC95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291600"/>
            <a:ext cx="905220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A886-A645-4F1B-992E-D1F7CC27A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39272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0D6F-E98C-4AB7-B0C0-1A165F500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39272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9F37-17FF-46E6-A64F-225E413B9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3927240"/>
            <a:ext cx="9052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53E6-170A-4A4E-ACBD-5918A52A4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0058400" y="7314840"/>
            <a:ext cx="142560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D668-1862-4435-B20B-72D83F478E91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0" y="0"/>
            <a:ext cx="10058400" cy="1454040"/>
          </a:xfrm>
          <a:prstGeom prst="rect">
            <a:avLst/>
          </a:prstGeom>
          <a:solidFill>
            <a:srgbClr val="1f3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2"/>
          <p:cNvSpPr/>
          <p:nvPr/>
        </p:nvSpPr>
        <p:spPr>
          <a:xfrm>
            <a:off x="0" y="1649520"/>
            <a:ext cx="10058400" cy="601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2"/>
          <a:stretch/>
        </p:blipFill>
        <p:spPr>
          <a:xfrm>
            <a:off x="0" y="-34920"/>
            <a:ext cx="10210680" cy="170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John.Forbes@ct.gov" TargetMode="External"/><Relationship Id="rId2" Type="http://schemas.openxmlformats.org/officeDocument/2006/relationships/hyperlink" Target="mailto:Ivan.Kuzyk@ct.go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2"/>
          <p:cNvSpPr/>
          <p:nvPr/>
        </p:nvSpPr>
        <p:spPr>
          <a:xfrm>
            <a:off x="441360" y="1943280"/>
            <a:ext cx="9151920" cy="49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1f3776"/>
                </a:solidFill>
                <a:latin typeface="Arial"/>
              </a:rPr>
              <a:t>Study of Parolees Released in 2005</a:t>
            </a:r>
            <a:br>
              <a:rPr sz="2800"/>
            </a:br>
            <a:br>
              <a:rPr sz="900"/>
            </a:br>
            <a:r>
              <a:rPr b="0" lang="en-US" sz="2200" spc="-1" strike="noStrike">
                <a:solidFill>
                  <a:srgbClr val="1f3776"/>
                </a:solidFill>
                <a:latin typeface="Arial"/>
              </a:rPr>
              <a:t>OPM/CJPPD - Research Un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esente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8,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JPA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CREST"/>
          <p:cNvPicPr/>
          <p:nvPr/>
        </p:nvPicPr>
        <p:blipFill>
          <a:blip r:embed="rId1"/>
          <a:stretch/>
        </p:blipFill>
        <p:spPr>
          <a:xfrm>
            <a:off x="3981600" y="3100320"/>
            <a:ext cx="20937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4"/>
          <p:cNvSpPr/>
          <p:nvPr/>
        </p:nvSpPr>
        <p:spPr>
          <a:xfrm>
            <a:off x="604440" y="527040"/>
            <a:ext cx="652392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System analysis, Tech violators (1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2005 parolees 2jpg.JPG"/>
          <p:cNvPicPr/>
          <p:nvPr/>
        </p:nvPicPr>
        <p:blipFill>
          <a:blip r:embed="rId1"/>
          <a:stretch/>
        </p:blipFill>
        <p:spPr>
          <a:xfrm>
            <a:off x="457200" y="1143000"/>
            <a:ext cx="90597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4"/>
          <p:cNvSpPr/>
          <p:nvPr/>
        </p:nvSpPr>
        <p:spPr>
          <a:xfrm>
            <a:off x="711360" y="527040"/>
            <a:ext cx="652392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System analysis, Tech violators (2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2005 parolees 3jpg.JPG"/>
          <p:cNvPicPr/>
          <p:nvPr/>
        </p:nvPicPr>
        <p:blipFill>
          <a:blip r:embed="rId1"/>
          <a:stretch/>
        </p:blipFill>
        <p:spPr>
          <a:xfrm>
            <a:off x="457200" y="1143000"/>
            <a:ext cx="90597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1"/>
          <p:cNvSpPr/>
          <p:nvPr/>
        </p:nvSpPr>
        <p:spPr>
          <a:xfrm>
            <a:off x="10058400" y="7315200"/>
            <a:ext cx="1425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94AF88AF-E639-445A-A407-C866A1160AD9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170000" y="2568600"/>
            <a:ext cx="8055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idivism rates by pathw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x offenders’ pathw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H offenders’ pathway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comes by parole office/offic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halfway house eff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profile: pathways and outco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50800" y="1963800"/>
            <a:ext cx="73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Some questions we intend to add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1"/>
          <p:cNvSpPr/>
          <p:nvPr/>
        </p:nvSpPr>
        <p:spPr>
          <a:xfrm>
            <a:off x="10058400" y="7315200"/>
            <a:ext cx="1425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71C4F69F-D211-4285-9133-EE50C94933AA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615040" y="2819520"/>
            <a:ext cx="482652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n Forb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ssistant Division Dir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 u="sng">
                <a:solidFill>
                  <a:srgbClr val="184572"/>
                </a:solidFill>
                <a:uFillTx/>
                <a:latin typeface="Arial"/>
                <a:hlinkClick r:id="rId1"/>
              </a:rPr>
              <a:t>John.Forbes@ct.gov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an Kuzy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irec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 Statistical Analysis Cent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 u="sng">
                <a:solidFill>
                  <a:srgbClr val="184572"/>
                </a:solidFill>
                <a:uFillTx/>
                <a:latin typeface="Arial"/>
                <a:hlinkClick r:id="rId2"/>
              </a:rPr>
              <a:t>Ivan.Kuzyk@ct.gov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29920" y="6296040"/>
            <a:ext cx="8998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www.ct.gov/opm/CriminalJustice/Research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1"/>
          <p:cNvSpPr/>
          <p:nvPr/>
        </p:nvSpPr>
        <p:spPr>
          <a:xfrm>
            <a:off x="10058400" y="7315200"/>
            <a:ext cx="1425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3EA7E83B-7460-4842-96DC-6973E32FD6D5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170000" y="2568600"/>
            <a:ext cx="8055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the 2010 Prisoner Recidivism Study as a departure point, CJPPD has begun an analysis of Recidivism among specific offender groups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,522 offenders were released to parole during 2005.  Using the same datasets we used for the offender study, now we can track parolees, exclusively.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50800" y="1963800"/>
            <a:ext cx="73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The 2005 Parolee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4"/>
          <p:cNvSpPr/>
          <p:nvPr/>
        </p:nvSpPr>
        <p:spPr>
          <a:xfrm>
            <a:off x="599400" y="527040"/>
            <a:ext cx="290916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Why parolee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104840" y="1341360"/>
            <a:ext cx="8055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o not have a good, macro-level  understanding of how parolees perform while they are on supervised parole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2010 Recidivism Report tracked offenders from the date of their first 2005 release.  As a result we only captured 1,899 offenders who were released to parole and another 746 who EOS’d from parole.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study will allow us to track 2,500 parolees from the date of their 2005 relea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4"/>
          <p:cNvSpPr/>
          <p:nvPr/>
        </p:nvSpPr>
        <p:spPr>
          <a:xfrm>
            <a:off x="610920" y="527040"/>
            <a:ext cx="47912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The parolees in the stud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104840" y="1341360"/>
            <a:ext cx="805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104840" y="1341360"/>
            <a:ext cx="80550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they came from (facility or halfway hou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they went (parole office, offic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ir movements over the next three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ir criminal histories following release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udy should allow us to gain some new insights into the proce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limitation – These releases occurred pre-Cheshire.  Further study will be required to determine if subsequent structural changes have had a positive impact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4"/>
          <p:cNvSpPr/>
          <p:nvPr/>
        </p:nvSpPr>
        <p:spPr>
          <a:xfrm>
            <a:off x="603000" y="527040"/>
            <a:ext cx="373212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System analysis (1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1031760" y="5668920"/>
            <a:ext cx="837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2005 parolees 1jpg.JPG"/>
          <p:cNvPicPr/>
          <p:nvPr/>
        </p:nvPicPr>
        <p:blipFill>
          <a:blip r:embed="rId1"/>
          <a:srcRect l="0" t="0" r="0" b="21280"/>
          <a:stretch/>
        </p:blipFill>
        <p:spPr>
          <a:xfrm>
            <a:off x="457200" y="1141560"/>
            <a:ext cx="9059760" cy="4606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1411200" y="5850000"/>
            <a:ext cx="760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graphic represents the  6 major pathways taken by offenders who were released to parole during 2005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4"/>
          <p:cNvSpPr/>
          <p:nvPr/>
        </p:nvSpPr>
        <p:spPr>
          <a:xfrm>
            <a:off x="603000" y="527040"/>
            <a:ext cx="373212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System analysis (2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1031760" y="5668920"/>
            <a:ext cx="837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2005 parolees 1jpg.JPG"/>
          <p:cNvPicPr/>
          <p:nvPr/>
        </p:nvPicPr>
        <p:blipFill>
          <a:blip r:embed="rId1"/>
          <a:srcRect l="0" t="0" r="0" b="21280"/>
          <a:stretch/>
        </p:blipFill>
        <p:spPr>
          <a:xfrm>
            <a:off x="457200" y="1141560"/>
            <a:ext cx="9059760" cy="4606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1411200" y="5850000"/>
            <a:ext cx="69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370 parolees (54%) EOS  from parole with no apparent proble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5996160" y="1566720"/>
            <a:ext cx="3395520" cy="3841920"/>
          </a:xfrm>
          <a:prstGeom prst="ellipse">
            <a:avLst/>
          </a:prstGeom>
          <a:solidFill>
            <a:srgbClr val="ff99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4"/>
          <p:cNvSpPr/>
          <p:nvPr/>
        </p:nvSpPr>
        <p:spPr>
          <a:xfrm>
            <a:off x="603000" y="527040"/>
            <a:ext cx="373212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System analysis (2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1031760" y="5668920"/>
            <a:ext cx="837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2005 parolees 1jpg.JPG"/>
          <p:cNvPicPr/>
          <p:nvPr/>
        </p:nvPicPr>
        <p:blipFill>
          <a:blip r:embed="rId1"/>
          <a:srcRect l="0" t="0" r="0" b="21280"/>
          <a:stretch/>
        </p:blipFill>
        <p:spPr>
          <a:xfrm>
            <a:off x="457200" y="1141560"/>
            <a:ext cx="9059760" cy="4606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1411200" y="5850000"/>
            <a:ext cx="760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oximately 465 (18%) appear to return with new charges or a new prison sentenc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939960" y="3043080"/>
            <a:ext cx="2560320" cy="2730600"/>
          </a:xfrm>
          <a:prstGeom prst="ellipse">
            <a:avLst/>
          </a:prstGeom>
          <a:solidFill>
            <a:srgbClr val="ff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4"/>
          <p:cNvSpPr/>
          <p:nvPr/>
        </p:nvSpPr>
        <p:spPr>
          <a:xfrm>
            <a:off x="603000" y="527040"/>
            <a:ext cx="373212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System analysis (3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1031760" y="5668920"/>
            <a:ext cx="837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005 parolees 1jpg.JPG"/>
          <p:cNvPicPr/>
          <p:nvPr/>
        </p:nvPicPr>
        <p:blipFill>
          <a:blip r:embed="rId1"/>
          <a:srcRect l="0" t="0" r="0" b="21280"/>
          <a:stretch/>
        </p:blipFill>
        <p:spPr>
          <a:xfrm>
            <a:off x="457200" y="1141560"/>
            <a:ext cx="9059760" cy="4606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1450800" y="5499000"/>
            <a:ext cx="760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cluding parolees who EOS or return with new sentences or charges, were are left with 488 who returned to prison for Technical Violations and 152 absconder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3265560" y="2128680"/>
            <a:ext cx="2887560" cy="3410280"/>
          </a:xfrm>
          <a:prstGeom prst="ellipse">
            <a:avLst/>
          </a:prstGeom>
          <a:solidFill>
            <a:srgbClr val="00b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4"/>
          <p:cNvSpPr/>
          <p:nvPr/>
        </p:nvSpPr>
        <p:spPr>
          <a:xfrm>
            <a:off x="610920" y="527040"/>
            <a:ext cx="551196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System analysis, abscond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2005 parolees 4jpg.JPG"/>
          <p:cNvPicPr/>
          <p:nvPr/>
        </p:nvPicPr>
        <p:blipFill>
          <a:blip r:embed="rId1"/>
          <a:srcRect l="0" t="6137" r="0" b="10157"/>
          <a:stretch/>
        </p:blipFill>
        <p:spPr>
          <a:xfrm>
            <a:off x="457200" y="1501920"/>
            <a:ext cx="905976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8:11:27Z</dcterms:created>
  <dc:creator>John Forbes</dc:creator>
  <dc:description/>
  <dc:language>en-US</dc:language>
  <cp:lastModifiedBy>Sherry Avarista</cp:lastModifiedBy>
  <dcterms:modified xsi:type="dcterms:W3CDTF">2010-04-21T20:02:42Z</dcterms:modified>
  <cp:revision>268</cp:revision>
  <dc:subject/>
  <dc:title>Slide 1</dc:title>
</cp:coreProperties>
</file>