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9C39-ED72-4282-A2D3-AF1E90CEB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D05F-DFD2-4150-80E1-E74A412B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284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284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6DF7-DD74-4213-8356-6AA05C92E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56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396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56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396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76F1-A604-409F-B068-C642ACA16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157D-C86B-4854-A725-C9581813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C038-C8CF-4D8B-AB66-988EA55B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E13F-97DC-4AC9-9789-22BAE959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284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4DF1-8DCF-4FB6-98CD-9655483C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08CC-B6F6-4413-81FB-E71258A6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762120"/>
            <a:ext cx="80010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BF0D-65A2-4BA7-80B3-8D05C2B7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284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527D-EDB3-4223-A366-BA0A7FD4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51FF-E92C-4039-B0F8-27DE0167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284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284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43B2-EBCC-4FBE-8B2C-2F3A4CAD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284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91A2-930B-43F5-8D19-C6619F84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BFDD-BD70-4A70-9AC7-FE65EF82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284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284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FD0C-7631-4F91-A3A2-D0D6ABB84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56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396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56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396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2C9E-82E1-4427-AE68-84F8FDB2C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C7E1-9C67-4A10-B214-E60D5261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284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D45C-61F3-4F1E-BFD9-68D46798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76AE-A9BA-4B1D-B97F-8EBFC339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762120"/>
            <a:ext cx="80010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264B-1222-4BE6-A4F5-ED16B4AA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284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C6F6-140E-4706-9085-319882AF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84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284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F377-68BF-4174-9FCE-A5E3A17E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84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CDA4-5789-4477-9E3F-B2DCA346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9/14/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State of Connecticut Judicial  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Court Support Services Di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BFCD-5DEC-4D75-BF19-90AA9E658CBC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3716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10BF-EC72-4E36-BF11-D9D6FF0217B1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1752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te of CT Judicial Bran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47560" y="3429000"/>
            <a:ext cx="70102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urt Support Services Divis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jor Initiatives Up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nted to the Criminal Justice Policy Advisory Commi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ptember 14, 20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242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ail Decision Ai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il Decision A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600k appropriation in 2007 legislative session to support three additional staff and additional pre-tria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ed database and statewide use beginning in October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 Population:  Moderate risk defendants who score -3 or higher on the Bail Risk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152280" y="1143000"/>
          <a:ext cx="8839440" cy="507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43000"/>
                    <a:ext cx="8839440" cy="50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447920" y="457200"/>
            <a:ext cx="7162560" cy="53352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Evaluation Outcomes for PTP and TVU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TP and TVU Expansion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volving Technical Services Fun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roximately ~$3.1m appropriation during 2007 legislative s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will support the ongoing expansion of the PTP and TVU special probation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 many as 40 additional probation officers will be hi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648320" y="2362320"/>
          <a:ext cx="449568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62320"/>
                    <a:ext cx="44956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14400" cy="878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90720" y="838080"/>
            <a:ext cx="784836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bation Transition Program and Technical Violation Units  </a:t>
            </a:r>
            <a:endParaRPr b="0" lang="en-US" sz="23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urrent and Projected Status</a:t>
            </a:r>
            <a:endParaRPr b="0" lang="en-US" sz="23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2362320"/>
          <a:ext cx="4572000" cy="38098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362320"/>
                    <a:ext cx="45720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tensive Pretrial Supervision Trac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rget Population:  Incarcerated defendants awaiting residential treat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ffing:  5 Veteran Probation Offi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arly 350 Referrals since incep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3% Success Ra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maining Challen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out-patient treatment services to support more rel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to educate the court on the IPST as an alternative to residential treatment and pretrial incarc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76212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457200" y="533520"/>
          <a:ext cx="8381880" cy="5638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33520"/>
                    <a:ext cx="838188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14479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ntal Health Case Manage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2743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ffing:  10 Veteran Probation Offic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ficers began taking cases on July 9, 20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clinical services in AICs via DMHAS local mental health 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76212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457200" y="609480"/>
          <a:ext cx="8229600" cy="5639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609480"/>
                    <a:ext cx="822960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391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ail Decision Aid Research (Hedlund, 2007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the Decision Aid in 357 cases resulted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55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wer FTA’s (17% Comparison group vs. 12 % for Decision Aid grou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55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use of conditional release recommendations (21% for Comparison group vs. 64% for Decision Aid grou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55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bail commissioner recommendations matching court orders (49% for Comparison group vs. 65% for Decision Aid grou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55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wer percentage of cases held in pre-trial jails (43%% for Comparison group vs. 25% for Decision Aid grou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7T23:39:36Z</dcterms:created>
  <dc:creator>Brian Hill</dc:creator>
  <dc:description/>
  <dc:language>en-US</dc:language>
  <cp:lastModifiedBy>Sherry Avarista</cp:lastModifiedBy>
  <dcterms:modified xsi:type="dcterms:W3CDTF">2007-09-19T18:49:35Z</dcterms:modified>
  <cp:revision>8</cp:revision>
  <dc:subject/>
  <dc:title>State of CT Judicial Branch</dc:title>
</cp:coreProperties>
</file>