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743-3F5F-482E-A691-E9E9D5CF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C55-96E8-4912-B413-2E017A7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18C-56C2-498E-9BB8-C71B5C0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F87-8D99-4D6D-ABFF-54FFD1EC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FC2C-151F-4751-BC14-8FFAD26C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A1A9-622E-436C-8C7F-4369B230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6195-22EE-432A-A704-B9DA5D22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412-D2DF-4D88-8AC8-B78C428F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FBAA-60FC-4239-ACA1-9F828D7D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C5BE-BA1E-425B-BD6D-A4A07DEF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334E-0092-47DA-B276-19D4143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E6C-C514-4077-9EAA-4DB01304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5D39-5BA2-4EB8-9CBF-5B59E29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75D5-193E-48ED-8022-B74107A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C228-81DE-40C1-A740-844F4B90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12AD-9CAB-40C5-9915-1336CA88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FCFA-EB7D-4B62-8C12-897B7A6F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117-44C2-41BB-83CE-16616F65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60A-345D-4D40-99DE-F52B255F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67D-E090-4438-9A99-043F295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1D4-9F48-4AB3-8EBF-AF40C374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21C-D4A7-4A8C-AE89-6A882AE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DB1-2DFD-4DBC-A1DB-3177A7E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4C9-6D5A-4A05-A7A5-C571872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9/14/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tate of Connecticut Judicial 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Court Support Service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315-262A-47A5-B52A-D45A93F6DDD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3788-EBBF-484F-BCAC-B2FEB8A1EE1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te of CT Judicial Bra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rt Support Services Divi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Initiatives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ed to the Criminal Justice Policy Advisory Com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tember 14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242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il Decision A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l Decision 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00k appropriation in 2007 legislative session to support three additional staff and additional pre-tr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database and statewide use beginning in Octo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Population:  Moderate risk defendants who score -3 or higher on the Bail Risk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52280" y="1143000"/>
          <a:ext cx="883944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8394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457200"/>
            <a:ext cx="7162560" cy="533520"/>
          </a:xfrm>
          <a:prstGeom prst="rect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Evaluation Outcomes for PTP and TVU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TP and TVU Expansio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olving Technical Services Fu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ly ~$3.1m appropriation during 2007 legislative s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will support the ongoing expansion of the PTP and TVU special probation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many as 40 additional probation officers will be h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2362320"/>
          <a:ext cx="44956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62320"/>
                    <a:ext cx="44956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838080"/>
            <a:ext cx="78483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bation Transition Program and Technical Violation Units  </a:t>
            </a:r>
            <a:endParaRPr b="0" lang="en-US" sz="23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rrent and Projected Status</a:t>
            </a:r>
            <a:endParaRPr b="0" lang="en-US" sz="23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2362320"/>
          <a:ext cx="4572000" cy="3809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362320"/>
                    <a:ext cx="4572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nsive Pretrial Supervision Trac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Population:  Incarcerated defendants awaiting residential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ffing:  5 Veteran Probation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arly 350 Referrals since in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3% Success R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aining Challe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out-patient treatment services to support more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educate the court on the IPST as an alternative to residential treatment and pretrial incarc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533520"/>
          <a:ext cx="83818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001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ntal Health Case Man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ffing:  10 Veteran Probation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icers began taking cases on July 9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linical services in AICs via DMHAS local mental health 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457200" y="609480"/>
          <a:ext cx="8229600" cy="563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09480"/>
                    <a:ext cx="82296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il Decision Aid Research (Hedlund, 2007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Decision Aid in 357 cases resul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wer FTA’s (17% Comparison group vs. 12 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use of conditional release recommendations (21% for Comparison group vs. 64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bail commissioner recommendations matching court orders (49% for Comparison group vs. 65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5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percentage of cases held in pre-trial jails (43%% for Comparison group vs. 25% for Decision Aid grou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3:39:36Z</dcterms:created>
  <dc:creator>Brian Hill</dc:creator>
  <dc:description/>
  <dc:language>en-US</dc:language>
  <cp:lastModifiedBy>Sherry Avarista</cp:lastModifiedBy>
  <dcterms:modified xsi:type="dcterms:W3CDTF">2007-09-19T18:49:35Z</dcterms:modified>
  <cp:revision>8</cp:revision>
  <dc:subject/>
  <dc:title>State of CT Judicial Branch</dc:title>
</cp:coreProperties>
</file>