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53F-ABB8-46ED-ADE8-A5FE812F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FA4-C900-46F0-A400-BCDE830A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B2E-9E79-42BB-A42D-EE36336A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534-AD65-49AC-AB27-56C58BF7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E0E-0CE2-4D4C-88ED-C8D2E65A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104-C5C3-4D20-B58C-7832C07F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4FF-2BEB-4098-82DF-83C8C6DF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2DA-EC97-4201-86ED-C7A18867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393-92B9-41E9-BB9C-CAD122EB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78A-C1F6-4CB1-8F65-CE7A902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C14-D725-4698-BE45-70957387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494-A259-433D-AFDA-596E456D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F005-D1E0-4D92-BC79-F7D66D3E7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657600" cy="60984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iversion/Re-entry System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106668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RE-ARR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905120"/>
            <a:ext cx="117468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OST ARR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ARRAIG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905120"/>
            <a:ext cx="91440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RE-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905120"/>
            <a:ext cx="103680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DOC 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905120"/>
            <a:ext cx="76176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RE-E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905120"/>
            <a:ext cx="99072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ROBATION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A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09680"/>
            <a:ext cx="29052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209680"/>
            <a:ext cx="3045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209680"/>
            <a:ext cx="22860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209680"/>
            <a:ext cx="38124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209680"/>
            <a:ext cx="38088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/>
          <p:nvPr/>
        </p:nvCxnSpPr>
        <p:spPr>
          <a:xfrm flipV="1" rot="16200000">
            <a:off x="4476240" y="-2190960"/>
            <a:ext cx="76680" cy="7963560"/>
          </a:xfrm>
          <a:prstGeom prst="curvedConnector5">
            <a:avLst>
              <a:gd name="adj1" fmla="val 721698"/>
              <a:gd name="adj2" fmla="val 50000"/>
              <a:gd name="adj3" fmla="val 721698"/>
            </a:avLst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8001000" y="1752480"/>
            <a:ext cx="99072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TECHN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VIO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/ OFF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362320"/>
            <a:ext cx="0" cy="3808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520" y="2819520"/>
            <a:ext cx="105084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I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in 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Local and State Pol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epart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514600"/>
            <a:ext cx="0" cy="4572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8120"/>
            <a:ext cx="8380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MH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Jail Di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514600"/>
            <a:ext cx="0" cy="3808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2971800"/>
            <a:ext cx="144792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OC/DMH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Multi-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as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5943600"/>
            <a:ext cx="594360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ahoma"/>
              </a:rPr>
              <a:t>Community Socia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2209680"/>
            <a:ext cx="38088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514600"/>
            <a:ext cx="0" cy="4572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048120"/>
            <a:ext cx="10666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SS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Re-Int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514600"/>
            <a:ext cx="0" cy="3049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2895480"/>
            <a:ext cx="106704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M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Garner CI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irect Intak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4038480"/>
            <a:ext cx="152424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ENTIT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3733920"/>
            <a:ext cx="0" cy="3045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971800"/>
            <a:ext cx="175284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MH Off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0644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Prob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0644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Pa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2514600"/>
            <a:ext cx="0" cy="3808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4648320" cy="990360"/>
          </a:xfrm>
          <a:prstGeom prst="downArrowCallout">
            <a:avLst>
              <a:gd name="adj1" fmla="val 117350"/>
              <a:gd name="adj2" fmla="val 117339"/>
              <a:gd name="adj3" fmla="val 16667"/>
              <a:gd name="adj4" fmla="val 6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Modified AIC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Day Reporting / Residential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rot="10800000">
            <a:off x="456480" y="3733920"/>
            <a:ext cx="1143720" cy="2667240"/>
          </a:xfrm>
          <a:prstGeom prst="curvedConnector2">
            <a:avLst/>
          </a:prstGeom>
          <a:ln w="38160">
            <a:solidFill>
              <a:srgbClr val="990033"/>
            </a:solidFill>
            <a:miter/>
            <a:head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1523880" y="3657600"/>
            <a:ext cx="762120" cy="2438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1066680" cy="1143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657600"/>
            <a:ext cx="0" cy="1143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58200" y="2362320"/>
            <a:ext cx="0" cy="5331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 flipV="1" rot="10800000">
            <a:off x="4114080" y="4190760"/>
            <a:ext cx="343800" cy="635760"/>
          </a:xfrm>
          <a:prstGeom prst="bentConnector2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019560" y="4190760"/>
            <a:ext cx="1189800" cy="1856520"/>
          </a:xfrm>
          <a:prstGeom prst="bentConnector2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2286000" y="3352680"/>
            <a:ext cx="30492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3352680"/>
            <a:ext cx="38088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69" idx="2"/>
            <a:endCxn id="71" idx="0"/>
          </p:cNvCxnSpPr>
          <p:nvPr/>
        </p:nvCxnSpPr>
        <p:spPr>
          <a:xfrm rot="5400000">
            <a:off x="6847560" y="3609360"/>
            <a:ext cx="1354680" cy="1181160"/>
          </a:xfrm>
          <a:prstGeom prst="bentConnector3">
            <a:avLst>
              <a:gd name="adj1" fmla="val 50026"/>
            </a:avLst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105520" y="3352680"/>
            <a:ext cx="30456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352680"/>
            <a:ext cx="38088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581280"/>
            <a:ext cx="1155600" cy="2743200"/>
          </a:xfrm>
          <a:custGeom>
            <a:avLst/>
            <a:gdLst/>
            <a:ahLst/>
            <a:rect l="l" t="t" r="r" b="b"/>
            <a:pathLst>
              <a:path w="728" h="1728">
                <a:moveTo>
                  <a:pt x="624" y="0"/>
                </a:moveTo>
                <a:cubicBezTo>
                  <a:pt x="676" y="480"/>
                  <a:pt x="728" y="960"/>
                  <a:pt x="624" y="1248"/>
                </a:cubicBezTo>
                <a:cubicBezTo>
                  <a:pt x="520" y="1536"/>
                  <a:pt x="104" y="1648"/>
                  <a:pt x="0" y="1728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8:11:27Z</dcterms:created>
  <dc:creator>State of Connecticut</dc:creator>
  <dc:description/>
  <dc:language>en-US</dc:language>
  <cp:lastModifiedBy>Sherry Avarista</cp:lastModifiedBy>
  <cp:lastPrinted>2003-12-16T15:01:49Z</cp:lastPrinted>
  <dcterms:modified xsi:type="dcterms:W3CDTF">2007-09-19T18:49:54Z</dcterms:modified>
  <cp:revision>7</cp:revision>
  <dc:subject/>
  <dc:title>Current System</dc:title>
</cp:coreProperties>
</file>