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4BB-0E5F-40E8-986F-64174DF6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97C-4CDD-4789-A724-7FADA6D6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AAC-C417-45FB-9242-1ACEFD76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22E-E368-4021-A441-23880A14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ABF-D1DA-4B6D-A72A-C9F089AF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66D-B3C5-4DF7-8333-BD92296A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699-EFC9-403D-A65E-5A463832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2E3-0967-481F-ABE3-4C20FD84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A81-3073-436B-9E3A-94454450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09A-3AAC-4718-972D-F14C79AB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711-B0AA-4856-B9CC-83E969A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A66-66B6-41AC-A222-4E290FB3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F3E7-DFA6-4B5B-8EDA-F57CDCB43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3657600" cy="60984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iversion/Re-entry System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106668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PRE-ARR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905120"/>
            <a:ext cx="117468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POST ARR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ARRAIG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1905120"/>
            <a:ext cx="91440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PRE-T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1905120"/>
            <a:ext cx="103680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DOC 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905120"/>
            <a:ext cx="76176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RE-E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905120"/>
            <a:ext cx="99072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PROBATION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PA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209680"/>
            <a:ext cx="29052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209680"/>
            <a:ext cx="3045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209680"/>
            <a:ext cx="22860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2209680"/>
            <a:ext cx="38124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2209680"/>
            <a:ext cx="38088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/>
          <p:nvPr/>
        </p:nvCxnSpPr>
        <p:spPr>
          <a:xfrm flipV="1" rot="16200000">
            <a:off x="4476240" y="-2190960"/>
            <a:ext cx="76680" cy="7963560"/>
          </a:xfrm>
          <a:prstGeom prst="curvedConnector5">
            <a:avLst>
              <a:gd name="adj1" fmla="val 721698"/>
              <a:gd name="adj2" fmla="val 50000"/>
              <a:gd name="adj3" fmla="val 721698"/>
            </a:avLst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8001000" y="1752480"/>
            <a:ext cx="990720" cy="5508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TECHN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VIO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Tahoma"/>
              </a:rPr>
              <a:t>/ OFFE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362320"/>
            <a:ext cx="0" cy="3808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8520" y="2819520"/>
            <a:ext cx="105084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CIT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in 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Local and State Pol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Depart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514600"/>
            <a:ext cx="0" cy="4572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048120"/>
            <a:ext cx="83808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DMH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Jail Di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2514600"/>
            <a:ext cx="0" cy="3808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2971800"/>
            <a:ext cx="1447920" cy="70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DOC/DMH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Multi-ag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cas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5943600"/>
            <a:ext cx="594360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Tahoma"/>
              </a:rPr>
              <a:t>Community Socia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2209680"/>
            <a:ext cx="38088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514600"/>
            <a:ext cx="0" cy="4572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048120"/>
            <a:ext cx="106668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CSS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Re-Inter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514600"/>
            <a:ext cx="0" cy="30492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2895480"/>
            <a:ext cx="106704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M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Consoli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Garner CI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Direct Intak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Fac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4038480"/>
            <a:ext cx="152424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ENTITL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3733920"/>
            <a:ext cx="0" cy="30456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2971800"/>
            <a:ext cx="175284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MH Offi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0644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Prob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06440">
              <a:lnSpc>
                <a:spcPct val="100000"/>
              </a:lnSpc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Tahoma"/>
              </a:rPr>
              <a:t>Pa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2514600"/>
            <a:ext cx="0" cy="3808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4648320" cy="990360"/>
          </a:xfrm>
          <a:prstGeom prst="downArrowCallout">
            <a:avLst>
              <a:gd name="adj1" fmla="val 117350"/>
              <a:gd name="adj2" fmla="val 117339"/>
              <a:gd name="adj3" fmla="val 16667"/>
              <a:gd name="adj4" fmla="val 6666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ahoma"/>
              </a:rPr>
              <a:t>Modified AIC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ahoma"/>
              </a:rPr>
              <a:t>Day Reporting / Residential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rot="10800000">
            <a:off x="456480" y="3733920"/>
            <a:ext cx="1143720" cy="2667240"/>
          </a:xfrm>
          <a:prstGeom prst="curvedConnector2">
            <a:avLst/>
          </a:prstGeom>
          <a:ln w="38160">
            <a:solidFill>
              <a:srgbClr val="990033"/>
            </a:solidFill>
            <a:miter/>
            <a:head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1523880" y="3657600"/>
            <a:ext cx="762120" cy="243828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657600"/>
            <a:ext cx="1066680" cy="1143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657600"/>
            <a:ext cx="0" cy="1143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58200" y="2362320"/>
            <a:ext cx="0" cy="53316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 flipV="1" rot="10800000">
            <a:off x="4114080" y="4190760"/>
            <a:ext cx="343800" cy="635760"/>
          </a:xfrm>
          <a:prstGeom prst="bentConnector2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019560" y="4190760"/>
            <a:ext cx="1189800" cy="1856520"/>
          </a:xfrm>
          <a:prstGeom prst="bentConnector2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2286000" y="3352680"/>
            <a:ext cx="304920" cy="0"/>
          </a:xfrm>
          <a:prstGeom prst="line">
            <a:avLst/>
          </a:prstGeom>
          <a:ln w="2232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3352680"/>
            <a:ext cx="380880" cy="0"/>
          </a:xfrm>
          <a:prstGeom prst="line">
            <a:avLst/>
          </a:prstGeom>
          <a:ln w="2232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69" idx="2"/>
            <a:endCxn id="71" idx="0"/>
          </p:cNvCxnSpPr>
          <p:nvPr/>
        </p:nvCxnSpPr>
        <p:spPr>
          <a:xfrm rot="5400000">
            <a:off x="6847560" y="3609360"/>
            <a:ext cx="1354680" cy="1181160"/>
          </a:xfrm>
          <a:prstGeom prst="bentConnector3">
            <a:avLst>
              <a:gd name="adj1" fmla="val 50026"/>
            </a:avLst>
          </a:prstGeom>
          <a:ln w="3816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105520" y="3352680"/>
            <a:ext cx="304560" cy="0"/>
          </a:xfrm>
          <a:prstGeom prst="line">
            <a:avLst/>
          </a:prstGeom>
          <a:ln w="2232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352680"/>
            <a:ext cx="380880" cy="0"/>
          </a:xfrm>
          <a:prstGeom prst="line">
            <a:avLst/>
          </a:prstGeom>
          <a:ln w="2232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3581280"/>
            <a:ext cx="1155600" cy="2743200"/>
          </a:xfrm>
          <a:custGeom>
            <a:avLst/>
            <a:gdLst/>
            <a:ahLst/>
            <a:rect l="l" t="t" r="r" b="b"/>
            <a:pathLst>
              <a:path w="728" h="1728">
                <a:moveTo>
                  <a:pt x="624" y="0"/>
                </a:moveTo>
                <a:cubicBezTo>
                  <a:pt x="676" y="480"/>
                  <a:pt x="728" y="960"/>
                  <a:pt x="624" y="1248"/>
                </a:cubicBezTo>
                <a:cubicBezTo>
                  <a:pt x="520" y="1536"/>
                  <a:pt x="104" y="1648"/>
                  <a:pt x="0" y="1728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8:11:27Z</dcterms:created>
  <dc:creator>State of Connecticut</dc:creator>
  <dc:description/>
  <dc:language>en-US</dc:language>
  <cp:lastModifiedBy>Sherry Avarista</cp:lastModifiedBy>
  <cp:lastPrinted>2003-12-16T15:01:49Z</cp:lastPrinted>
  <dcterms:modified xsi:type="dcterms:W3CDTF">2007-09-19T18:49:54Z</dcterms:modified>
  <cp:revision>7</cp:revision>
  <dc:subject/>
  <dc:title>Current System</dc:title>
</cp:coreProperties>
</file>