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58400" cy="73152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8AEC-11BC-478B-A04E-D8E087A1A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9052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3927240"/>
            <a:ext cx="9052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DF87-8B0F-4756-A79B-FFA4C7C59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39272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39272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54C8-D18F-4903-AC3A-D6331B49D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7114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7114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39272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39272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39272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2DBC-7CCE-4D1D-A97B-6008E94E77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711440"/>
            <a:ext cx="9052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0904-C5A3-453C-884A-A6E8F4F2CF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9052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BAA5-72C5-412A-A560-98D55E5E0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4417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711440"/>
            <a:ext cx="4417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F10F-D14B-4CD0-89FF-762EF831C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0B3D-1040-4813-B167-2790EFC1B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291600"/>
            <a:ext cx="905220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60E80-916F-4CAA-9B62-78ED97BDF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711440"/>
            <a:ext cx="4417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39272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68AB-A6D0-4695-88CC-9669B1D83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4417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39272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9BFE3-7637-4907-9FB4-C50E35BA7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3927240"/>
            <a:ext cx="9052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B37B-57A6-4FD3-92FE-77CA5E64F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0058400" y="7314840"/>
            <a:ext cx="142560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72A8-9225-45E4-BA2A-3B16E9C133E4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1"/>
          <p:cNvSpPr/>
          <p:nvPr/>
        </p:nvSpPr>
        <p:spPr>
          <a:xfrm>
            <a:off x="0" y="0"/>
            <a:ext cx="10058400" cy="1454040"/>
          </a:xfrm>
          <a:prstGeom prst="rect">
            <a:avLst/>
          </a:prstGeom>
          <a:solidFill>
            <a:srgbClr val="1f3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2"/>
          <p:cNvSpPr/>
          <p:nvPr/>
        </p:nvSpPr>
        <p:spPr>
          <a:xfrm>
            <a:off x="0" y="1649520"/>
            <a:ext cx="10058400" cy="601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2"/>
          <a:stretch/>
        </p:blipFill>
        <p:spPr>
          <a:xfrm>
            <a:off x="0" y="-34920"/>
            <a:ext cx="10210680" cy="170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John.Forbes@ct.gov" TargetMode="External"/><Relationship Id="rId2" Type="http://schemas.openxmlformats.org/officeDocument/2006/relationships/hyperlink" Target="mailto:Ivan.Kuzyk@ct.gov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CREST"/>
          <p:cNvPicPr/>
          <p:nvPr/>
        </p:nvPicPr>
        <p:blipFill>
          <a:blip r:embed="rId1"/>
          <a:stretch/>
        </p:blipFill>
        <p:spPr>
          <a:xfrm>
            <a:off x="3981600" y="3100320"/>
            <a:ext cx="2093760" cy="134136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3"/>
          <p:cNvSpPr/>
          <p:nvPr/>
        </p:nvSpPr>
        <p:spPr>
          <a:xfrm>
            <a:off x="1176480" y="2128680"/>
            <a:ext cx="794196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1f3776"/>
                </a:solidFill>
                <a:latin typeface="Arial"/>
              </a:rPr>
              <a:t>Some findings concerning recidivism among weapons offenders</a:t>
            </a:r>
            <a:br>
              <a:rPr sz="2400"/>
            </a:br>
            <a:br>
              <a:rPr sz="8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ent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JPA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1"/>
          <p:cNvSpPr/>
          <p:nvPr/>
        </p:nvSpPr>
        <p:spPr>
          <a:xfrm>
            <a:off x="10058400" y="7315200"/>
            <a:ext cx="1425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fld id="{53CC03B7-E5FB-4477-AF61-F7DCDBCD4108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216960" y="2819520"/>
            <a:ext cx="3622320" cy="25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n Forb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t. Director, OPM, CJPP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 u="sng">
                <a:solidFill>
                  <a:srgbClr val="184572"/>
                </a:solidFill>
                <a:uFillTx/>
                <a:latin typeface="Arial"/>
                <a:hlinkClick r:id="rId1"/>
              </a:rPr>
              <a:t>John.Forbes@ct.gov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an Kuzy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irect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 Statistical Analysis Cent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 u="sng">
                <a:solidFill>
                  <a:srgbClr val="184572"/>
                </a:solidFill>
                <a:uFillTx/>
                <a:latin typeface="Arial"/>
                <a:hlinkClick r:id="rId2"/>
              </a:rPr>
              <a:t>Ivan.Kuzyk@ct.gov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529920" y="6296040"/>
            <a:ext cx="8998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Arial"/>
              </a:rPr>
              <a:t>www.ct.gov/opm/CriminalJustice/Research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08040" y="590400"/>
            <a:ext cx="77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idivism among weapons offen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PAGE ONE jpg.JPG"/>
          <p:cNvPicPr/>
          <p:nvPr/>
        </p:nvPicPr>
        <p:blipFill>
          <a:blip r:embed="rId1"/>
          <a:stretch/>
        </p:blipFill>
        <p:spPr>
          <a:xfrm>
            <a:off x="668160" y="1241280"/>
            <a:ext cx="4042080" cy="5291280"/>
          </a:xfrm>
          <a:prstGeom prst="rect">
            <a:avLst/>
          </a:prstGeom>
          <a:ln w="9360">
            <a:solidFill>
              <a:srgbClr val="123456"/>
            </a:solidFill>
            <a:miter/>
          </a:ln>
        </p:spPr>
      </p:pic>
      <p:sp>
        <p:nvSpPr>
          <p:cNvPr id="45" name="TextBox 8"/>
          <p:cNvSpPr/>
          <p:nvPr/>
        </p:nvSpPr>
        <p:spPr>
          <a:xfrm>
            <a:off x="5068800" y="1189080"/>
            <a:ext cx="45324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PP Chairman Robert Farr requested information on the recidivism rates of weapons offenders compared to offenders that had no record of weapons offense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alysis was used OPM’s existing dataset for 16,241 sentenced offenders who were released or discharged from prison in 2005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tracked 3-year recidivism rates for offenders with any illicit weapons history prior to their 2005-release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608040" y="590400"/>
            <a:ext cx="77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idivism among weapons offen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062080" y="1254240"/>
            <a:ext cx="5472360" cy="3971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809640" y="5578560"/>
            <a:ext cx="804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ding 1: Offenders with a history of incarceration on weapons charges recidivated at higher rates than other offenders.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08040" y="590400"/>
            <a:ext cx="77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idivism among weapons offen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197000" y="1430280"/>
            <a:ext cx="7639200" cy="3695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1162080" y="5511960"/>
            <a:ext cx="816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idivism rates among weapons offenders were higher for each recidivism type and for every window of time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608040" y="590400"/>
            <a:ext cx="8510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idivism among weapons offen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12640" y="1332000"/>
            <a:ext cx="5567400" cy="4751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6296040" y="1293840"/>
            <a:ext cx="30304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bined, the 1,911 weapons offenders in the study served a total of 2,612 separate sentences  for weapons offense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ffenders’ sentences ranges across almost different weapons statutes, most common eight (8) statutes accounted for 87% of all weapons sentences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08040" y="590400"/>
            <a:ext cx="85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pons offenders – arrest, conviction &amp; incarc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550960" y="1297080"/>
            <a:ext cx="5313600" cy="320040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954000" y="4637160"/>
            <a:ext cx="8672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2: The population of offenders with a history of weapons use or possession was higher than we anticipated.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14,391 sentenced males who were released or discharged in 2005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% had served a prison sentence for a weapons offen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 had been convicted of a weapon offense, 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% had been charged with a weapons offense at arr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608040" y="590400"/>
            <a:ext cx="85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pons offenders – arrest, conviction &amp; incarc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954000" y="4414680"/>
            <a:ext cx="8372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ding 3: Proximity to illegal weapons, not conviction, is a predictor of recidivism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ecidivism rates of weapons offenders were remarkably consistent regardless of whether the offender had been sentenced (67%), convicted (66%), or only arrested on a weapons offense (65%)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141640" y="1535040"/>
            <a:ext cx="59245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08040" y="590400"/>
            <a:ext cx="77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pons offenders and ri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901800" y="1149480"/>
            <a:ext cx="7602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4: Involvement with weapons and risk of recidivism were closely linked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ong 2,798 male offenders with the lowest TPAI scores (scores of 1 to 3)  only 2% had ever been sentenced to prison for a weapons charg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ong 1,625 male offenders with the highest risk scores (scores of 7 or 8) 36% has served a prison sentence for a weapons offens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76280" y="4327560"/>
            <a:ext cx="90295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608040" y="590400"/>
            <a:ext cx="77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pons offenders and other char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901800" y="1241280"/>
            <a:ext cx="760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ly 13% of weapons offenders had not served a prison sentence for either a drug crime, a property crime or a violent felony.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ix of charges blues jpg.JPG"/>
          <p:cNvPicPr/>
          <p:nvPr/>
        </p:nvPicPr>
        <p:blipFill>
          <a:blip r:embed="rId1"/>
          <a:stretch/>
        </p:blipFill>
        <p:spPr>
          <a:xfrm>
            <a:off x="725400" y="2476440"/>
            <a:ext cx="7216920" cy="3799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8"/>
          <p:cNvSpPr/>
          <p:nvPr/>
        </p:nvSpPr>
        <p:spPr>
          <a:xfrm>
            <a:off x="601560" y="6361200"/>
            <a:ext cx="88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ng weapons offenders:  41%  also served sentences for felony violence; 65% for drug offenses, and 44% had served sentences for property crim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8:11:27Z</dcterms:created>
  <dc:creator>John Forbes</dc:creator>
  <dc:description/>
  <dc:language>en-US</dc:language>
  <cp:lastModifiedBy>Ivan Kuzyk</cp:lastModifiedBy>
  <dcterms:modified xsi:type="dcterms:W3CDTF">2010-09-10T13:48:45Z</dcterms:modified>
  <cp:revision>395</cp:revision>
  <dc:subject/>
  <dc:title>Slide 1</dc:title>
</cp:coreProperties>
</file>